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141840"/>
            <a:ext cx="5824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5922720" y="141840"/>
            <a:ext cx="87444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20074"/>
                </a:solidFill>
                <a:latin typeface="Tele-Antiqua"/>
              </a:rPr>
              <a:t>Click to move the slide</a:t>
            </a:r>
            <a:endParaRPr b="0" lang="en-US" sz="34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720000"/>
            <a:ext cx="5284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6570720" y="9720000"/>
            <a:ext cx="2268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de-DE" sz="1200" spc="-1" strike="noStrike">
                <a:solidFill>
                  <a:srgbClr val="000000"/>
                </a:solidFill>
                <a:latin typeface="Tele-GroteskNor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0EB1B7-2756-43AC-9CCD-BBEBF2796581}" type="slidenum">
              <a:rPr b="0" lang="de-DE" sz="1200" spc="-1" strike="noStrike">
                <a:solidFill>
                  <a:srgbClr val="000000"/>
                </a:solidFill>
                <a:latin typeface="Tele-GroteskNo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B/POS Umschaltung (nach Anmeldung entweder Business oder Consumer Berei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796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schiedliche Felder und Validier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1680" y="4673520"/>
            <a:ext cx="4935240" cy="52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x-Treekomponente nicht brauch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AND Tree integ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buchen der Produkte in den 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DC33-7780-43AA-8B4F-CAE5EC7E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CA2D-5AC9-4E6F-AB26-2D1A800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CEAF-1363-4F28-9529-95A8B87A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94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06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94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465F-1CCB-4D64-BF35-F8369D6E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752616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F60D-0355-4561-A58F-16051DAB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94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8280" y="117432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06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94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8280" y="3771360"/>
            <a:ext cx="242712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4F9E-9D3D-45A1-BE18-F311D5B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A90F-6CFF-43A1-A3CF-8A17DE54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8546-8FAD-4569-8E7F-452A447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63640" y="301320"/>
            <a:ext cx="752616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AC09-C545-4D42-A2A8-CBD6831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6C31-BDBC-48EF-A478-1208306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840" y="377136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76F8-5A4B-4DFC-B68E-72C0E9E9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840" y="1174320"/>
            <a:ext cx="367884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0680" y="3771360"/>
            <a:ext cx="7538760" cy="23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49E7-F435-49D9-8D85-C2D983E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3" marL="1882800" indent="-26676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4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5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6" marL="2421000" indent="-268200">
              <a:lnSpc>
                <a:spcPct val="75000"/>
              </a:lnSpc>
              <a:spcBef>
                <a:spcPts val="2500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02160" y="6589800"/>
            <a:ext cx="20872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Tele-GroteskHal"/>
              </a:rPr>
              <a:t>Seite </a:t>
            </a:r>
            <a:fld id="{EC45297E-0C2C-4C04-99F0-D2426668661D}" type="slidenum">
              <a:rPr b="0" lang="en-US" sz="1000" spc="-1" strike="noStrike">
                <a:solidFill>
                  <a:srgbClr val="666666"/>
                </a:solidFill>
                <a:latin typeface="Tele-GroteskH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603600" y="6364080"/>
            <a:ext cx="2085840" cy="1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DOAG – SIG Development - A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602160" y="6477120"/>
            <a:ext cx="208728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66666"/>
                </a:solidFill>
                <a:latin typeface="Tele-GroteskHal"/>
              </a:defRPr>
            </a:lvl1pPr>
          </a:lstStyle>
          <a:p>
            <a:pPr indent="0" algn="ct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6666"/>
                </a:solidFill>
                <a:latin typeface="Tele-GroteskHal"/>
              </a:rPr>
              <a:t>Michael Forster / Dietmar A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520" y="6265800"/>
            <a:ext cx="184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!!!</a:t>
            </a:r>
            <a:r>
              <a:rPr b="0" lang="de-DE" sz="2400" spc="-1" strike="noStrike">
                <a:solidFill>
                  <a:srgbClr val="e20074"/>
                </a:solidFill>
                <a:latin typeface="TeleLogo"/>
              </a:rPr>
              <a:t>"</a:t>
            </a: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§§§Punkt</a:t>
            </a:r>
            <a:r>
              <a:rPr b="0" lang="en-US" sz="2400" spc="-1" strike="noStrike">
                <a:solidFill>
                  <a:srgbClr val="999999"/>
                </a:solidFill>
                <a:latin typeface="TeleLogo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261200" y="6265800"/>
            <a:ext cx="1631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54920" y="6265800"/>
            <a:ext cx="1560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opal_logo_50px_hoch" descr=""/>
          <p:cNvPicPr/>
          <p:nvPr/>
        </p:nvPicPr>
        <p:blipFill>
          <a:blip r:embed="rId2"/>
          <a:stretch/>
        </p:blipFill>
        <p:spPr>
          <a:xfrm>
            <a:off x="7542360" y="6292800"/>
            <a:ext cx="847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61480" y="2918880"/>
            <a:ext cx="7526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20074"/>
                </a:solidFill>
                <a:latin typeface="Tele-Antiqua"/>
              </a:rPr>
              <a:t>Click to edit the title text format</a:t>
            </a:r>
            <a:endParaRPr b="0" lang="en-US" sz="34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703080" y="6265800"/>
            <a:ext cx="184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!!!</a:t>
            </a:r>
            <a:r>
              <a:rPr b="0" lang="de-DE" sz="2400" spc="-1" strike="noStrike">
                <a:solidFill>
                  <a:srgbClr val="e20074"/>
                </a:solidFill>
                <a:latin typeface="TeleLogo"/>
              </a:rPr>
              <a:t>"</a:t>
            </a:r>
            <a:r>
              <a:rPr b="0" lang="de-DE" sz="2400" spc="-1" strike="noStrike">
                <a:solidFill>
                  <a:srgbClr val="999999"/>
                </a:solidFill>
                <a:latin typeface="TeleLogo"/>
              </a:rPr>
              <a:t>§§§Punkt</a:t>
            </a:r>
            <a:r>
              <a:rPr b="0" lang="en-US" sz="2400" spc="-1" strike="noStrike">
                <a:solidFill>
                  <a:srgbClr val="999999"/>
                </a:solidFill>
                <a:latin typeface="TeleLogo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pal_logo_50px_hoch" descr=""/>
          <p:cNvPicPr/>
          <p:nvPr/>
        </p:nvPicPr>
        <p:blipFill>
          <a:blip r:embed="rId2"/>
          <a:stretch/>
        </p:blipFill>
        <p:spPr>
          <a:xfrm>
            <a:off x="7542360" y="6292800"/>
            <a:ext cx="847440" cy="36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ele-GroteskHal"/>
              </a:rPr>
              <a:t>Click to edit the outline text format</a:t>
            </a:r>
            <a:endParaRPr b="0" lang="en-US" sz="1600" spc="-1" strike="noStrike">
              <a:solidFill>
                <a:srgbClr val="666666"/>
              </a:solidFill>
              <a:latin typeface="Tele-GroteskHal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le-GroteskH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algn="ctr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3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4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Tele-GroteskNor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Tele-GroteskNor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br.com/docs/products/dhtmlxTree/" TargetMode="External"/><Relationship Id="rId2" Type="http://schemas.openxmlformats.org/officeDocument/2006/relationships/hyperlink" Target="http://www.iconexperience.com/" TargetMode="External"/><Relationship Id="rId3" Type="http://schemas.openxmlformats.org/officeDocument/2006/relationships/hyperlink" Target="http://www.aptana.com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1480" y="2918880"/>
            <a:ext cx="775980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e20074"/>
                </a:solidFill>
                <a:latin typeface="Tele-Antiqua"/>
              </a:rPr>
              <a:t>DOAG: SIG Development</a:t>
            </a:r>
            <a:br>
              <a:rPr sz="3400"/>
            </a:br>
            <a:r>
              <a:rPr b="0" lang="de-DE" sz="2600" spc="-1" strike="noStrike">
                <a:solidFill>
                  <a:srgbClr val="e20074"/>
                </a:solidFill>
                <a:latin typeface="Tele-Antiqua"/>
              </a:rPr>
              <a:t>Absatzerfassung im T-Punkt (AbiT)</a:t>
            </a:r>
            <a:endParaRPr b="0" lang="en-US" sz="26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3560" y="4431960"/>
            <a:ext cx="753588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Tele-Antiqua"/>
              </a:rPr>
              <a:t>Michael Forster / Dietmar Aust</a:t>
            </a: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Tele-Antiqua"/>
              </a:rPr>
              <a:t>31. Mai 2007</a:t>
            </a: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Tele-GroteskH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2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1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er Aufwand für die interne Buchführung der Mitarbeiter st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Schlangen hinter den Kassen beim Tagesabschl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Erfolgreiche Einführung des DWH macht Appetit auf mehr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rweiterung der Scan Code Systematik auf 40 Scan C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tablierung eines Data Warehouse zur Vertriebssteu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2 2006: 40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4180-60FC-4642-83DC-7E2B1ECC27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3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er Aufwand ist für den Mitarbeiter nicht mehr nachvollziehbar. Steigende Beschwerden vom und beim Betriebsr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Mitarbeiter machen ihren Tagesabschluss oft noch weit hinter der regulären Arbeitsz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inführung neuer Produkte hätte Scan Code Liste auf über 90 Einträge wachsen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Ärger mit Konzernrevision, da Mitarbeitervergütung keinen Bezug mehr zum Originalauftrag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Beschluss der Geschäftsführung, im vierten Quartal eine revisionssichere Variante der Absatzerfassung im T-Punkt zu etabliere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rweiterung der Scan Code Systematik auf 68 Scan C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3 2006: 68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1560-21CF-4ED5-9F9C-D969349CF6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nforderungen an eine Dialogerfassung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Entwicklung eines Eingabedialoges zur Erfassung des mitarbeiterspezifischen relevanten und nicht relevanten Absatzes zur Speicherung in 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Realisierung einer Schnittstelle zum Abrechn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Schnelle und einfache Bedien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Hohe Verfügbarkeit für die über 5.000 Mitarbeiter im T-Pun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Konzeption, Abstimmung mit dem Sozialpartner, Realisierung und Einführung innerhalb von drei Mon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bschaffung der Scan Code Syste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Herstellung der Revisionssicherh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Berücksichtigung der Anforderungen aus dem Vetriebsmonitor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eue Anforderung: Nachweis über den Verkauf subventionierter End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rbeitsentlastung für den Mitarbeiter im T-Pun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Ziel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12F1-1649-49D4-A9C4-10D0A49564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er Projektverlauf aus Kundensich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Oracle Application Express war bis dahin kein strategisches Produkt innerhalb der IT der TPG, sondern wurde durch den Lieferanten mitgebra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ir waren froh, überhaupt jemanden gefunden zu haben, der sich ein solches Projekt in einer so kurzen Zeit zutr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ffektive Realisierungsdauer 4 Wochen + 2 Wochen Pilotierung in ausgewählten T-Punk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echselnde Anforderungen der TPG bis kurz vor Projekte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erzicht auf Last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ünktliche Systemeinführung am Sonntag, den 01.10.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9BA5-5B6B-4030-AD48-F5D729E49F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Probleme mit Abi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-Einbruch am Montag, den 02.10.2006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4 Stunden Systemaus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ilot T-Punkte erfassten ihre Absätze in den ersten 10 Tagen weiterhin in der Testumgeb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 Probleme bei der Schnittstelle zum Abrechnungs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Performance Probleme auf einigen Rechnern bei der Arbeit mit den Produktauswahl-Dial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usfall eines Datenbank-Clusters zwischen Weihnachten und Neujah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4 Stunden Systemaus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Kleinere Applikationsfehler, die anschließende Datenkorrekturen erforde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D0F9-120D-4731-830C-F2FD29BD2B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Fazit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biT wurde in kürzester Zeit von den Mitarbeiter in den T-Punkten akzeptiert und als Arbeitserleichterung empfu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biT ist eines der stabilsten und performantesten Systeme, welches in den T-Punkten im Einsatz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712D-32AF-414A-92AC-8FD4C3482B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Vorstellung Opal-Consulting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Dipl.-Inform. Dietmar Aust, Freelance Consultan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1997-2000: Consultant bei der Oracle Deutschland GmbH / Düsseldor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Schwerpunkte: Oracle Portal, Oracle Reports, Oracle Forms, PL/SQL, PLSQL Web Toolkit (OWA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Seit 09/2000: Freiberuflich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Schwerpunkte: Oracle Portal, Oracle Reports, Oracle Application Express, Oracle Express Edit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ktivitä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daust.blogspot.com/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forums.oracle.com/forums/forum.jspa?forumID=137 (Apex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http://forums.oracle.com/forums/forum.jspa?forumID=251 (X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0779-C7D7-455E-8DFC-83F613F264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 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Hardwar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54440" y="3244680"/>
            <a:ext cx="395280" cy="419400"/>
          </a:xfrm>
          <a:prstGeom prst="rect">
            <a:avLst/>
          </a:prstGeom>
          <a:ln w="0">
            <a:noFill/>
          </a:ln>
        </p:spPr>
      </p:pic>
      <p:pic>
        <p:nvPicPr>
          <p:cNvPr id="148" name="computer_medium_white" descr=""/>
          <p:cNvPicPr/>
          <p:nvPr/>
        </p:nvPicPr>
        <p:blipFill>
          <a:blip r:embed="rId2"/>
          <a:stretch/>
        </p:blipFill>
        <p:spPr>
          <a:xfrm>
            <a:off x="1201680" y="3038400"/>
            <a:ext cx="750960" cy="838440"/>
          </a:xfrm>
          <a:prstGeom prst="rect">
            <a:avLst/>
          </a:prstGeom>
          <a:ln w="0">
            <a:noFill/>
          </a:ln>
        </p:spPr>
      </p:pic>
      <p:cxnSp>
        <p:nvCxnSpPr>
          <p:cNvPr id="149" name=""/>
          <p:cNvCxnSpPr>
            <a:stCxn id="148" idx="3"/>
            <a:endCxn id="147" idx="1"/>
          </p:cNvCxnSpPr>
          <p:nvPr/>
        </p:nvCxnSpPr>
        <p:spPr>
          <a:xfrm flipV="1">
            <a:off x="1952280" y="3454200"/>
            <a:ext cx="9025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092320" y="3187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064280" y="2719440"/>
            <a:ext cx="82260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27760" y="29862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84600" y="1633680"/>
            <a:ext cx="60192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584600" y="3348000"/>
            <a:ext cx="601920" cy="1371600"/>
          </a:xfrm>
          <a:prstGeom prst="rect">
            <a:avLst/>
          </a:prstGeom>
          <a:ln w="0">
            <a:noFill/>
          </a:ln>
        </p:spPr>
      </p:pic>
      <p:cxnSp>
        <p:nvCxnSpPr>
          <p:cNvPr id="155" name=""/>
          <p:cNvCxnSpPr>
            <a:stCxn id="147" idx="3"/>
            <a:endCxn id="153" idx="1"/>
          </p:cNvCxnSpPr>
          <p:nvPr/>
        </p:nvCxnSpPr>
        <p:spPr>
          <a:xfrm flipV="1">
            <a:off x="3249720" y="2318760"/>
            <a:ext cx="1335600" cy="11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7" idx="3"/>
            <a:endCxn id="154" idx="1"/>
          </p:cNvCxnSpPr>
          <p:nvPr/>
        </p:nvCxnSpPr>
        <p:spPr>
          <a:xfrm>
            <a:off x="3249720" y="3454200"/>
            <a:ext cx="133560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3"/>
            <a:endCxn id="152" idx="1"/>
          </p:cNvCxnSpPr>
          <p:nvPr/>
        </p:nvCxnSpPr>
        <p:spPr>
          <a:xfrm flipV="1">
            <a:off x="5186160" y="3443040"/>
            <a:ext cx="16419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3" idx="3"/>
            <a:endCxn id="152" idx="1"/>
          </p:cNvCxnSpPr>
          <p:nvPr/>
        </p:nvCxnSpPr>
        <p:spPr>
          <a:xfrm>
            <a:off x="5186160" y="2319480"/>
            <a:ext cx="164196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2625840" y="3735360"/>
            <a:ext cx="893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Hardware Load Bal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40240" y="4865760"/>
            <a:ext cx="8938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Application Server 1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10.1.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5960" y="1100160"/>
            <a:ext cx="893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Application Server 2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10.1.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93000" y="4148280"/>
            <a:ext cx="893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ele-GroteskNor"/>
              </a:rPr>
              <a:t>Oracle RAC 10.2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1600" y="27939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9640" y="2475000"/>
            <a:ext cx="81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QL*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9640" y="3789360"/>
            <a:ext cx="81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QL*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40040" y="34862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6C34-4654-495D-9476-F1A5428FD9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Konfiguration Datenbank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atenbank-Server (2 Knoten im RAC Cluster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Maschine: Sun Fire V490 Server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CPUs: 2 Dual Core CPUs (4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AM: 8GB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Betriebssystem: Solaris 10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Oracle Datenbank 10.2.0.1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Oracle Application Express 2.2.1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pplikations--Server (2x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Maschine: Fujitsu Siemens RX 300 S2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CPUs: 2 Hyperthreading CPUs(4HT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AM: 8GB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Betriebssystem: Linux RH AS4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Oracle 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plication Server 10.1.3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D7A9-2486-4BBC-B697-B64B28629E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Nutzung &amp; Auslast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Nutz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User / Tag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3500 pro Tag aktiv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Aufträge / Tag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 20.000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Zugriffszahlen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: 400.000 Hits pro Tag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slast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plication Server: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rverauslastung: &gt;95% idle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#http Sessions: 30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atenbank Server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rverauslastung: 30%  (bei Ausfall eines Knotens 70%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Sessions: 25-35 concurrent (pro Knoten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Jede Http Session öffnet eine Datenbank-Session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344600" indent="-26820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edicated, kein Shared Server (MTS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77BA-DEE4-43B3-822F-7EF6E2F1C0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genda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157400"/>
            <a:ext cx="752616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orstellung T-Punkt Vertriebsgesellschaft 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intergrund und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Vorstellung Opal-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Technische Infrastru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Um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2187-2B2D-480C-A57A-6CFBDC3795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Nutzung &amp; Auslast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72" name="SNAG-0000" descr=""/>
          <p:cNvPicPr/>
          <p:nvPr/>
        </p:nvPicPr>
        <p:blipFill>
          <a:blip r:embed="rId1"/>
          <a:stretch/>
        </p:blipFill>
        <p:spPr>
          <a:xfrm>
            <a:off x="633240" y="1004760"/>
            <a:ext cx="8182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69C-105B-4DD7-80D6-F31B736819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erformance Problem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Performance Probleme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Mehrere hundert Sessions in der Datenbank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efault 150 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&gt;600 http 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&gt;600 Datenbank-Session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Wie funktioniert mod_plsql?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ine Datenbank-Session pro http Prozes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gal, ob Image oder Datenbank-Reques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ep alive hält Connection für http Client 15 Sekunden off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Lösung: 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ep alive=of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3F99-D880-48F5-A663-B0D71231D3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Technische Infrastruktur</a:t>
            </a:r>
            <a:br>
              <a:rPr sz="2300"/>
            </a:b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 </a:t>
            </a: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Konfiguration Application Server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99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ele-GroteskHal"/>
              </a:rPr>
              <a:t>Oracle </a:t>
            </a:r>
            <a:r>
              <a:rPr b="0" lang="de-DE" sz="2400" spc="-1" strike="noStrike">
                <a:solidFill>
                  <a:srgbClr val="000000"/>
                </a:solidFill>
                <a:latin typeface="Tele-GroteskHal"/>
              </a:rPr>
              <a:t>Application Server 10.1.3.0 Konfiguration</a:t>
            </a:r>
            <a:endParaRPr b="0" lang="en-US" sz="24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ttpd.conf</a:t>
            </a:r>
            <a:br>
              <a:rPr sz="20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KeepAlive off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MaxClients 35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Port 8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Listen 8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Engine 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$                http://abit-tpg.telekom.de/pls/apex/f?p=abit: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[R,L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abit$            http://abit-tpg.telekom.de/pls/apex/f?p=abit:1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[R=301]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writeRule ^/abit_login(.*)   http://abit-tpg.telekom.de/pls/apex/f?p=abi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shortcut:::NO::P651_ACTION,P651_PARAMETER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:ABIT_LOGIN,$1, [R,L]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marvel.conf</a:t>
            </a:r>
            <a:br>
              <a:rPr sz="20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Alias /i/ "/ag/oracle/appserver_1/apex/images/„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Directory "/ag/oracle/appserver_1/apex/images/"&gt;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AllowOverride Non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Order allow,den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Allow from all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&lt;IfModule mod_expires.c&gt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ExpiresActive 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ExpiresDefault "access plus 1 hour„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&lt;/IfModule&gt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Directory&g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7D38-1A15-46B9-8471-E0235D5875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Übersicht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bau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23 Seit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 mit und ohne Logi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sseite komplex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Herausforderung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Hochverfügbar (07:00 – 22:00, 7 Tage die Woch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Performant bei 5000 Usern und 20.000 Aufträgen pro Tag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Realisierung in nur 6 Wochen (davon 2 Wochen Pilotierun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forderungen während der Entwicklung geändert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Erfassungsdialoge stark optimiert (Produktauswahl 50% der Seitenaufruf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179" name="SNAG-0003" descr=""/>
          <p:cNvPicPr/>
          <p:nvPr/>
        </p:nvPicPr>
        <p:blipFill>
          <a:blip r:embed="rId1"/>
          <a:stretch/>
        </p:blipFill>
        <p:spPr>
          <a:xfrm>
            <a:off x="4797360" y="1174680"/>
            <a:ext cx="1432080" cy="13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2381-BFC0-478C-90B0-64E3D188B9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Erfassungsseit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41280" y="1174680"/>
          <a:ext cx="6758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174680"/>
                    <a:ext cx="6758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705640" y="1536840"/>
            <a:ext cx="1414440" cy="336240"/>
          </a:xfrm>
          <a:prstGeom prst="wedgeRoundRectCallout">
            <a:avLst>
              <a:gd name="adj1" fmla="val -81875"/>
              <a:gd name="adj2" fmla="val 128773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SCB / 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11960" y="2054160"/>
            <a:ext cx="1414440" cy="336600"/>
          </a:xfrm>
          <a:prstGeom prst="wedgeRoundRectCallout">
            <a:avLst>
              <a:gd name="adj1" fmla="val -47981"/>
              <a:gd name="adj2" fmla="val 172171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ausw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3697200"/>
            <a:ext cx="1414440" cy="336600"/>
          </a:xfrm>
          <a:prstGeom prst="wedgeRoundRectCallout">
            <a:avLst>
              <a:gd name="adj1" fmla="val 105333"/>
              <a:gd name="adj2" fmla="val -15801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Favor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90840" y="5613480"/>
            <a:ext cx="1414440" cy="336600"/>
          </a:xfrm>
          <a:prstGeom prst="wedgeRoundRectCallout">
            <a:avLst>
              <a:gd name="adj1" fmla="val 108472"/>
              <a:gd name="adj2" fmla="val -106134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ö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3A56-5BB3-4B58-BDB9-1A13FC9F99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851040" y="1227240"/>
          <a:ext cx="753876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1227240"/>
                    <a:ext cx="75387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5703840" y="4921200"/>
            <a:ext cx="1414440" cy="336600"/>
          </a:xfrm>
          <a:prstGeom prst="wedgeRoundRectCallout">
            <a:avLst>
              <a:gd name="adj1" fmla="val -166"/>
              <a:gd name="adj2" fmla="val -398111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l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27320" y="4753080"/>
            <a:ext cx="1414440" cy="336600"/>
          </a:xfrm>
          <a:prstGeom prst="wedgeRoundRectCallout">
            <a:avLst>
              <a:gd name="adj1" fmla="val -34064"/>
              <a:gd name="adj2" fmla="val -183962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strukt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03520" y="658800"/>
            <a:ext cx="1414440" cy="336600"/>
          </a:xfrm>
          <a:prstGeom prst="wedgeRoundRectCallout">
            <a:avLst>
              <a:gd name="adj1" fmla="val 66050"/>
              <a:gd name="adj2" fmla="val 201416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EDA4-6212-4936-853B-1507E6E322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Produktdialog – Live Demo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trag erfass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roduktauswahl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Favori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jax, wo es sinnvoll is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pex Baumdarstellungen nicht geeigne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195" name="computer_medium_white" descr=""/>
          <p:cNvPicPr/>
          <p:nvPr/>
        </p:nvPicPr>
        <p:blipFill>
          <a:blip r:embed="rId1"/>
          <a:stretch/>
        </p:blipFill>
        <p:spPr>
          <a:xfrm>
            <a:off x="5662440" y="1174680"/>
            <a:ext cx="199872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2C14-C0DA-47D1-8B57-261A539E86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 - Implementier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ex Tree nicht nutzbar (xhtmlTree ; DHTML; lazy loadin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Warenkorb: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jax normalerweise von Hand Bericht erzeugen (Funktionalität nachbauen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ktualisierung einer Region mit Javascript (PPR Bericht ohne API)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lvl="2" marL="1223280" indent="-243720">
              <a:lnSpc>
                <a:spcPct val="90000"/>
              </a:lnSpc>
              <a:buClr>
                <a:srgbClr val="000000"/>
              </a:buClr>
              <a:buFont typeface="Tele-GroteskNor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utzung der Apex PPR Berichte – Basisfunktionalität</a:t>
            </a:r>
            <a:endParaRPr b="0" lang="en-US" sz="1600" spc="-1" strike="noStrike">
              <a:solidFill>
                <a:srgbClr val="000000"/>
              </a:solidFill>
              <a:latin typeface="Tele-GroteskHal"/>
            </a:endParaRPr>
          </a:p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PR SQL Bericht erstell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No data found: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&lt;div class="PPRTARGET"&gt;Der Warenkorb ist leer.&lt;/div&gt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-24264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Regions-Footer: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&lt;REGION NAME="REGION_WARENKORB_BP" type="REPORT" /&gt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marL="243720" indent="-24372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Javascript library ApexRegio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ApexRegion.prototype =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getRegionName: function(){return this.regionName},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ele-GroteskH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:function()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var refreshUrl = 'f?p=' + apexAppId + ':'+ apexPageId + ':' + apexSession + ':pg_R_' + this.regionId.substring(1,this.regionId.length) + ':NO&amp;pg_min_row=' + this.firstRowFetched + '&amp;pg_max_rows=' + this.maxRows + '&amp;pg_rows_fetched='+ this.maxRows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     …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Tele-GroteskHal"/>
              </a:rPr>
              <a:t>html_PPR_Report_Page(null,this.regionId,refreshUrl);}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3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98" name=""/>
          <p:cNvSpPr/>
          <p:nvPr/>
        </p:nvSpPr>
        <p:spPr>
          <a:xfrm>
            <a:off x="5808600" y="4162320"/>
            <a:ext cx="1454040" cy="336600"/>
          </a:xfrm>
          <a:prstGeom prst="wedgeRoundRectCallout">
            <a:avLst>
              <a:gd name="adj1" fmla="val -255893"/>
              <a:gd name="adj2" fmla="val 11320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unktion Refre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0280" y="5978520"/>
            <a:ext cx="2179800" cy="336600"/>
          </a:xfrm>
          <a:prstGeom prst="wedgeRoundRectCallout">
            <a:avLst>
              <a:gd name="adj1" fmla="val 58157"/>
              <a:gd name="adj2" fmla="val -69810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Apex PPR Funktionalitä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C669-966D-4C9B-8760-241F58128D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Produktdialog - Implementieru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Aufru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function p202_add_produkt_to_warenkorb(pProduktId, pProduktAnzahlField, pProduktPreisField, pIstBundleProdukt)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...  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lErrCode =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addProduktToWarenkorbAjax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(pProduktId, pProduktAnzahlField.value, pProduktPreisField ? pProduktPreisField.value : null, pIstBundleProdukt, pRetVals, '0'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caller.$x('P1_AUFTRAG_ID').value = pRetVals.auftragId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// refresh current Warenkorb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apexGetRegionByName('REGION_WARENKORB_BP').refresh(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// refresh Warenkorb in calling page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ele-GroteskHal"/>
              </a:rPr>
              <a:t>caller.apexGetRegionByName('REGION_WARENKORB_BP').refresh();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Einschränkung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Ohne Paginat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steuerung über API =&gt; Pagination wird zurückgesetzt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202" name=""/>
          <p:cNvSpPr/>
          <p:nvPr/>
        </p:nvSpPr>
        <p:spPr>
          <a:xfrm>
            <a:off x="5575320" y="2678040"/>
            <a:ext cx="2027160" cy="336600"/>
          </a:xfrm>
          <a:prstGeom prst="wedgeRoundRectCallout">
            <a:avLst>
              <a:gd name="adj1" fmla="val -69967"/>
              <a:gd name="adj2" fmla="val 141037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 aktuali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10360" y="4513320"/>
            <a:ext cx="2179440" cy="336600"/>
          </a:xfrm>
          <a:prstGeom prst="wedgeRoundRectCallout">
            <a:avLst>
              <a:gd name="adj1" fmla="val -50875"/>
              <a:gd name="adj2" fmla="val -208018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Warenkorb auf Erfassungsseite aktuali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1880" y="838080"/>
            <a:ext cx="2179800" cy="336600"/>
          </a:xfrm>
          <a:prstGeom prst="wedgeRoundRectCallout">
            <a:avLst>
              <a:gd name="adj1" fmla="val -125601"/>
              <a:gd name="adj2" fmla="val 351416"/>
              <a:gd name="adj3" fmla="val 16667"/>
            </a:avLst>
          </a:prstGeom>
          <a:solidFill>
            <a:srgbClr val="ffffff"/>
          </a:solidFill>
          <a:ln w="28440">
            <a:solidFill>
              <a:srgbClr val="e2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le-GroteskHal"/>
              </a:rPr>
              <a:t>Produkte mit AJAX speich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4668-7719-40E6-9B5A-71BF44F417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Nested Reports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49120" indent="0">
              <a:lnSpc>
                <a:spcPct val="6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0">
              <a:lnSpc>
                <a:spcPct val="65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-249120">
              <a:lnSpc>
                <a:spcPct val="65000"/>
              </a:lnSpc>
              <a:spcBef>
                <a:spcPts val="1749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Stored function liefert HTML 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(http://daust.blogspot.com/2007/03/apex-nested-reports.html)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UNCTION get_emps_inline_f (p_deptno NUMBER)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RETURN VARCHAR2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VARCHAR2 (32767)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cnt   NUMBER           := 0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'&lt;table class="inlineTable"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r&gt;&lt;th&gt;No.&lt;/th&gt;&lt;th&gt;Name&lt;/th&gt;&lt;th&gt;Job&lt;/th&gt;&lt;th&gt;Salary&lt;/th&gt;&lt;/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FOR cur IN (SELECT   empno, ename, job, sal,  FROM emp  WHERE deptno = p_deptno  ORDER BY ename)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td&gt;'|| cur.empno || '&lt;/td&gt;&lt;td&gt;' || cur.ename || '&lt;/td&gt;&lt;td&gt;' || cur.job || '&lt;/td&gt;&lt;td&gt;' || cur.sal  || '&lt;/td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/tr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cnt    := l_cnt + 1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END LOOP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l_str    := l_str || '&lt;/table&gt;'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IF l_cnt = 0   THEN   RETURN '';   ELSE  RETURN l_str;   END IF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ele-GroteskH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marL="249120" indent="-249120">
              <a:lnSpc>
                <a:spcPct val="65000"/>
              </a:lnSpc>
              <a:spcBef>
                <a:spcPts val="2251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ufruf in SQL Regio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le-GroteskHal"/>
            </a:endParaRPr>
          </a:p>
          <a:p>
            <a:pPr lvl="1" marL="74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SELECT dept.*,</a:t>
            </a:r>
            <a:r>
              <a:rPr b="1" lang="en-GB" sz="1400" spc="-1" strike="noStrike">
                <a:solidFill>
                  <a:srgbClr val="000000"/>
                </a:solidFill>
                <a:latin typeface="Tele-GroteskHal"/>
              </a:rPr>
              <a:t>get_emps_inline_f (deptno)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 employees</a:t>
            </a:r>
            <a:r>
              <a:rPr b="0" lang="de-DE" sz="1400" spc="-1" strike="noStrike">
                <a:solidFill>
                  <a:srgbClr val="000000"/>
                </a:solidFill>
                <a:latin typeface="Tele-GroteskH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FROM dept </a:t>
            </a:r>
            <a:endParaRPr b="0" lang="en-US" sz="14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207" name="capture_002" descr=""/>
          <p:cNvPicPr/>
          <p:nvPr/>
        </p:nvPicPr>
        <p:blipFill>
          <a:blip r:embed="rId1"/>
          <a:stretch/>
        </p:blipFill>
        <p:spPr>
          <a:xfrm>
            <a:off x="1143000" y="836640"/>
            <a:ext cx="6289560" cy="11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94DD-D366-413C-A1CC-071766ED25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Konzern.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Vertriebskanal für die Geschäftsfelder der Deutschen Telekom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6440" y="1476360"/>
            <a:ext cx="8874360" cy="42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5294-9418-4149-AE13-2CA999E219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de-DE" sz="2100" spc="-1" strike="noStrike">
                <a:solidFill>
                  <a:srgbClr val="666666"/>
                </a:solidFill>
                <a:latin typeface="Tele-Antiqua"/>
              </a:rPr>
              <a:t>Performance Tuning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Keine Lasttest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2 Mio. Aufträge als Testdaten erzeug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Jedes Statement einzeln optimiert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ebug Information über Developer Toolbar (Laufzeiten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 der Images im Application Server 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ast nicht auf dem Application Server, nur in der Datenbank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nders als bei J2EE Applikation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eswegen funktionieren diese Optimierungen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B53A-6CB4-4E17-8235-E68C6276D6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Umsetzung</a:t>
            </a:r>
            <a:br>
              <a:rPr sz="2300"/>
            </a:br>
            <a:r>
              <a:rPr b="0" lang="en-US" sz="2100" spc="-1" strike="noStrike">
                <a:solidFill>
                  <a:srgbClr val="666666"/>
                </a:solidFill>
                <a:latin typeface="Tele-Antiqua"/>
              </a:rPr>
              <a:t>Eingesetzte Komponenten / Werkzeuge</a:t>
            </a:r>
            <a:endParaRPr b="0" lang="en-US" sz="21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dhtmlXTre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1"/>
              </a:rPr>
              <a:t>http://scbr.com/docs/products/dhtmlxTree/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IconExperience 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2"/>
              </a:rPr>
              <a:t>http://www.iconexperience.com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-259920">
              <a:lnSpc>
                <a:spcPct val="6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Werkzeug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Toad (Quest Software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Aptana (</a:t>
            </a:r>
            <a:r>
              <a:rPr b="0" lang="de-DE" sz="1800" spc="-1" strike="noStrike" u="sng">
                <a:solidFill>
                  <a:srgbClr val="6699ff"/>
                </a:solidFill>
                <a:uFillTx/>
                <a:latin typeface="Tele-GroteskHal"/>
                <a:hlinkClick r:id="rId3"/>
              </a:rPr>
              <a:t>http://www.aptana.com/</a:t>
            </a: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781920" indent="-258480">
              <a:lnSpc>
                <a:spcPct val="90000"/>
              </a:lnSpc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Firefox (Developer Toolbar; MeasureIt; Aadvark; Firebug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59920" indent="0">
              <a:lnSpc>
                <a:spcPct val="65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pic>
        <p:nvPicPr>
          <p:cNvPr id="212" name="SNAG-0005" descr=""/>
          <p:cNvPicPr/>
          <p:nvPr/>
        </p:nvPicPr>
        <p:blipFill>
          <a:blip r:embed="rId4"/>
          <a:stretch/>
        </p:blipFill>
        <p:spPr>
          <a:xfrm>
            <a:off x="6151680" y="1174680"/>
            <a:ext cx="2238120" cy="2073240"/>
          </a:xfrm>
          <a:prstGeom prst="rect">
            <a:avLst/>
          </a:prstGeom>
          <a:ln w="0">
            <a:noFill/>
          </a:ln>
        </p:spPr>
      </p:pic>
      <p:pic>
        <p:nvPicPr>
          <p:cNvPr id="213" name="SNAG-0008" descr=""/>
          <p:cNvPicPr/>
          <p:nvPr/>
        </p:nvPicPr>
        <p:blipFill>
          <a:blip r:embed="rId5"/>
          <a:stretch/>
        </p:blipFill>
        <p:spPr>
          <a:xfrm>
            <a:off x="863640" y="2443320"/>
            <a:ext cx="5067360" cy="23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378C-6CAC-4940-AEEF-C45DD8A73B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Lessons learned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ele-GroteskHal"/>
              </a:rPr>
              <a:t>Entwicklungs-Zyklus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Änderungen ausschließlich über Patch-Skripte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Hal"/>
              </a:rPr>
              <a:t>Deployment über drei Instanzen (Patch-Skripte getestet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Überall dieselbe Applikations-ID (103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lvl="1" marL="806400" indent="-266760"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le-GroteskHal"/>
              </a:rPr>
              <a:t>DEBUG – Build Option (Default OFF)</a:t>
            </a:r>
            <a:endParaRPr b="0" lang="en-US" sz="18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ilotumgebung abschalten und/oder visuell kennzeichn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Lasttests durchführ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Caching der Images / Keep Alive off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RAC Konfiguration (#Sessions bei Knotenausfall hoch genug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Public Session Protection (URL mit Session wird verteilt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ele-GroteskHal"/>
              </a:rPr>
              <a:t>Server Dimensionierung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0">
              <a:lnSpc>
                <a:spcPct val="7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137C-1CD3-4DC9-82D6-1A831A866B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Überblick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1986: Eröffnung erster T-Punkt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Mai 2004 : Ausgründung in eine eigenständige Gmb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ls hundertprozentige Tochter der Deutschen Telekom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Die T-Punkt Vertriebsgesellschaft ist der einzige stationä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Vertriebskanal der Deutschen Telekom in Deutschland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Betreuung von jährlich rund 60 Millionen Privatkunden und ü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2,5 Millionen mittelständischen Geschäftskunden (T-Punkt Business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Rund 630 Filialen und eine Verkaufsfläche von über 73 000 Quadratmeter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Mehr als 6000 Mitarbeiter, zusätzlich 1450 Auszubildende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00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43B6-FA96-4F90-AB37-D0599897D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T-Punkt Vertriebsgesellschaft im Überblick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0680" y="1174320"/>
            <a:ext cx="75387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Als Schaufenster des Konzerns direkter, persönli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Kontakt zum Kunden (Face to Face)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Geschäftsfeldübergreifendes Portfolio an Produk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und Diensten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  <a:p>
            <a:pPr marL="268200" indent="-268200">
              <a:lnSpc>
                <a:spcPct val="75000"/>
              </a:lnSpc>
              <a:spcBef>
                <a:spcPts val="2500"/>
              </a:spcBef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Erlebnisorientierte, interaktive Präsentation für innova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und erklärungsbedürftige Produkte und Dienstleistun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le-GroteskHal"/>
              </a:rPr>
              <a:t>der Deutschen Telekom</a:t>
            </a:r>
            <a:endParaRPr b="0" lang="en-US" sz="2000" spc="-1" strike="noStrike">
              <a:solidFill>
                <a:srgbClr val="000000"/>
              </a:solidFill>
              <a:latin typeface="Tele-GroteskHal"/>
            </a:endParaRPr>
          </a:p>
        </p:txBody>
      </p:sp>
      <p:sp>
        <p:nvSpPr>
          <p:cNvPr id="103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9C84-BBA1-46C6-A979-54F0F56650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Die Unternehmensorganisation.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Die Filialen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290600"/>
            <a:ext cx="9001080" cy="47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F83E-BE3B-4FA8-9D9F-04FE280760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e20074"/>
                </a:solidFill>
                <a:latin typeface="Tele-Antiqua"/>
              </a:rPr>
              <a:t>Die Unternehmensorganisation.</a:t>
            </a:r>
            <a:br>
              <a:rPr sz="2300"/>
            </a:br>
            <a:r>
              <a:rPr b="0" lang="de-DE" sz="2300" spc="-1" strike="noStrike">
                <a:solidFill>
                  <a:srgbClr val="666666"/>
                </a:solidFill>
                <a:latin typeface="Tele-Antiqua"/>
              </a:rPr>
              <a:t>Sechs verschiedene Outlet-Typen.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0320" y="1211400"/>
            <a:ext cx="887076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5309-DF87-4E36-AE93-503B724F5E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Absatzerfassung im T-Punkt</a:t>
            </a:r>
            <a:br>
              <a:rPr sz="2300"/>
            </a:br>
            <a:r>
              <a:rPr b="0" lang="en-US" sz="2300" spc="-1" strike="noStrike">
                <a:solidFill>
                  <a:srgbClr val="666666"/>
                </a:solidFill>
                <a:latin typeface="Tele-Antiqua"/>
              </a:rPr>
              <a:t>Ausgangssituation und Zielsetzung</a:t>
            </a: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PG benötigt ein eigenes System für die Absatzerfassung zur variablen Vergü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abei soll der Mitarbeiter nach dem Brutto-Absatz-Prinzip vergütet werd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as Jahreszielgehalt der Mitarbeiter in den T-Punkten besteht aus einem fixen Anteil und einem variablen Anteil, der unter anderem abhängig von der Verkaufsleis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-Punkt Vertriebsgesellschaft verfügt über kein eigenes Order Management System, sondern benutzt stattdessen die Systeme der jeweiligen Divisionen (T-Com, T-Online, T-Mob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Die TPG hat keinen direkten Zugriff auf die von ihren Mitarbeitern erfasste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le-GroteskHal"/>
              </a:rPr>
              <a:t>Unterschiedliche Betrachtungsweisen eines Vertriebserfolgs (Brutto- / Nettosich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Ausgangs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Ziel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5F76-E454-422D-B7E3-10469D6F7C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5261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20074"/>
                </a:solidFill>
                <a:latin typeface="Tele-Antiqua"/>
              </a:rPr>
              <a:t>Historische Ansätze und Probleme 1 / 3</a:t>
            </a:r>
            <a:br>
              <a:rPr sz="2300"/>
            </a:br>
            <a:endParaRPr b="0" lang="en-US" sz="2300" spc="-1" strike="noStrike">
              <a:solidFill>
                <a:srgbClr val="e20074"/>
              </a:solidFill>
              <a:latin typeface="Tele-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863640" y="1157400"/>
            <a:ext cx="7886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Aft>
                <a:spcPts val="1250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buClr>
                <a:srgbClr val="e200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2920" y="1449360"/>
            <a:ext cx="3852720" cy="471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Neue Anforderung: Die erfassten Brutto-Absätze sollen auch als Basis für ein Vertriebsmonitoring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ie 14 Scan Codes reichen zwar aus für die variable Vergütung, aber die erfassten Cluster sind viel zu grob für eine Vertriebssteu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Entstehung von parallelen Erfassungssystematike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8200" y="1487520"/>
            <a:ext cx="4068720" cy="4716360"/>
          </a:xfrm>
          <a:prstGeom prst="rightArrow">
            <a:avLst>
              <a:gd name="adj1" fmla="val 100000"/>
              <a:gd name="adj2" fmla="val 136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Mitarbeiter führen Strichlisten über Ihre Verkaufserfol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Die Erfassung erfolgt in 14 Gruppen analog zu den unterschiedlichen Bewertungsclustern in der variablen Vergü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e2007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ele-GroteskHal"/>
              </a:rPr>
              <a:t>Abends erfassen sie über 14 Scan Codes an der Kasse ihre gestrichelten Absät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8200" y="1090440"/>
            <a:ext cx="352908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ele-GroteskHal"/>
              </a:rPr>
              <a:t>Quartal 1 2006: 14 Sca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2920" y="1090440"/>
            <a:ext cx="3852720" cy="395640"/>
          </a:xfrm>
          <a:prstGeom prst="rect">
            <a:avLst/>
          </a:prstGeom>
          <a:solidFill>
            <a:srgbClr val="e200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le-GroteskHal"/>
              </a:rPr>
              <a:t>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erfasser · weitere Angab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866F-E589-4E62-89E4-5857D93581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Thema der Präsentation · Dat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32:39Z</dcterms:created>
  <dc:creator>M. Flugel</dc:creator>
  <dc:description/>
  <dc:language>en-US</dc:language>
  <cp:lastModifiedBy>Dietmar Aust</cp:lastModifiedBy>
  <cp:lastPrinted>2004-07-26T11:50:29Z</cp:lastPrinted>
  <dcterms:modified xsi:type="dcterms:W3CDTF">2007-05-31T07:04:46Z</dcterms:modified>
  <cp:revision>128</cp:revision>
  <dc:subject/>
  <dc:title>Anforderungs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Name">
    <vt:lpwstr>&lt;&lt;filename&gt;&gt;</vt:lpwstr>
  </property>
  <property fmtid="{D5CDD505-2E9C-101B-9397-08002B2CF9AE}" pid="3" name="FilenameSize">
    <vt:r8>7</vt:r8>
  </property>
  <property fmtid="{D5CDD505-2E9C-101B-9397-08002B2CF9AE}" pid="4" name="_AdHocReviewCycleID">
    <vt:r8>1879052374</vt:r8>
  </property>
  <property fmtid="{D5CDD505-2E9C-101B-9397-08002B2CF9AE}" pid="5" name="_AuthorEmail">
    <vt:lpwstr>Michael.Flugel@t-systems.com</vt:lpwstr>
  </property>
  <property fmtid="{D5CDD505-2E9C-101B-9397-08002B2CF9AE}" pid="6" name="_AuthorEmailDisplayName">
    <vt:lpwstr>Flugel, Michael</vt:lpwstr>
  </property>
  <property fmtid="{D5CDD505-2E9C-101B-9397-08002B2CF9AE}" pid="7" name="_EmailSubject">
    <vt:lpwstr>Shop_DB_Status_20070404 V01.ppt</vt:lpwstr>
  </property>
</Properties>
</file>