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10.png" ContentType="image/pn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141840"/>
            <a:ext cx="58248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Nor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5922720" y="141840"/>
            <a:ext cx="87444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de-DE" sz="1200" spc="-1" strike="noStrike">
                <a:solidFill>
                  <a:srgbClr val="000000"/>
                </a:solidFill>
                <a:latin typeface="Tele-GroteskNor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No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20074"/>
                </a:solidFill>
                <a:latin typeface="Tele-Antiqua"/>
              </a:rPr>
              <a:t>Click to move the slide</a:t>
            </a:r>
            <a:endParaRPr b="0" lang="en-US" sz="34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1680" y="4673520"/>
            <a:ext cx="4935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720000"/>
            <a:ext cx="52848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de-DE" sz="1200" spc="-1" strike="noStrike">
                <a:solidFill>
                  <a:srgbClr val="000000"/>
                </a:solidFill>
                <a:latin typeface="Tele-GroteskNor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Nor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6570720" y="9720000"/>
            <a:ext cx="22680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de-DE" sz="1200" spc="-1" strike="noStrike">
                <a:solidFill>
                  <a:srgbClr val="000000"/>
                </a:solidFill>
                <a:latin typeface="Tele-GroteskNor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A79F872-2D99-4A47-8FAA-2C13A4EF7261}" type="slidenum">
              <a:rPr b="0" lang="de-DE" sz="12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1680" y="4673520"/>
            <a:ext cx="4935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B/POS Umschaltung (nach Anmeldung entweder Business oder Consumer Berei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796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terschiedliche Felder und Validier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673520"/>
            <a:ext cx="4935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ex-Treekomponente nicht brauch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AND Tree integri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urchbuchen der Produkte in den Warenko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1680" y="4673520"/>
            <a:ext cx="4935240" cy="52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ex-Treekomponente nicht brauch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AND Tree integri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urchbuchen der Produkte in den Warenko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1680" y="4673520"/>
            <a:ext cx="4935240" cy="52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ex-Treekomponente nicht brauch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AND Tree integri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urchbuchen der Produkte in den Warenko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673520"/>
            <a:ext cx="4935240" cy="52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ex-Treekomponente nicht brauch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AND Tree integri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urchbuchen der Produkte in den Warenko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1680" y="4673520"/>
            <a:ext cx="4935240" cy="52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ex-Treekomponente nicht brauch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AND Tree integri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urchbuchen der Produkte in den Warenko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5F60-817B-4EE7-A986-91339B84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0680" y="3771360"/>
            <a:ext cx="753876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11E1-68C3-40A7-879F-8B304071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0680" y="377136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3840" y="377136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D1EB-5B63-4923-8C93-58CABCE0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9480" y="117432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8280" y="117432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0680" y="377136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9480" y="377136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8280" y="377136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CFFE-89EA-47E8-8349-221802EF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Tele-GroteskH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63640" y="301320"/>
            <a:ext cx="752616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Tele-GroteskH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0680" y="377136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578D-C105-493F-B1BF-89400279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840" y="377136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0680" y="3771360"/>
            <a:ext cx="753876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0680" y="3771360"/>
            <a:ext cx="753876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0680" y="377136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840" y="377136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99480" y="117432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8280" y="117432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0680" y="377136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99480" y="377136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8280" y="377136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1251-2148-4EE9-9CC8-8D131252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2A85-6D56-4867-89FE-58BC2892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3B11-222B-4E6D-A381-E26D2D01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63640" y="301320"/>
            <a:ext cx="752616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Tele-GroteskH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9884-90DF-425E-8BC4-B920E74A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0680" y="377136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5C76-D649-4DDC-9227-85BA458A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3840" y="377136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2F9F-3EA5-4BCF-8E8B-15349DE4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0680" y="3771360"/>
            <a:ext cx="753876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ACC0-E4A7-488B-946E-C10C4997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Click to edit the title text format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2" marL="1344600" indent="-268200">
              <a:lnSpc>
                <a:spcPct val="75000"/>
              </a:lnSpc>
              <a:spcBef>
                <a:spcPts val="2500"/>
              </a:spcBef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3" marL="1882800" indent="-266760">
              <a:lnSpc>
                <a:spcPct val="75000"/>
              </a:lnSpc>
              <a:spcBef>
                <a:spcPts val="2500"/>
              </a:spcBef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4" marL="2421000" indent="-268200">
              <a:lnSpc>
                <a:spcPct val="75000"/>
              </a:lnSpc>
              <a:spcBef>
                <a:spcPts val="2500"/>
              </a:spcBef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5" marL="2421000" indent="-268200">
              <a:lnSpc>
                <a:spcPct val="75000"/>
              </a:lnSpc>
              <a:spcBef>
                <a:spcPts val="2500"/>
              </a:spcBef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6" marL="2421000" indent="-268200">
              <a:lnSpc>
                <a:spcPct val="75000"/>
              </a:lnSpc>
              <a:spcBef>
                <a:spcPts val="2500"/>
              </a:spcBef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02160" y="6589800"/>
            <a:ext cx="20872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66"/>
                </a:solidFill>
                <a:latin typeface="Tele-GroteskHal"/>
              </a:defRPr>
            </a:lvl1pPr>
          </a:lstStyle>
          <a:p>
            <a:pPr indent="0" algn="ctr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6666"/>
                </a:solidFill>
                <a:latin typeface="Tele-GroteskHal"/>
              </a:rPr>
              <a:t>Seite </a:t>
            </a:r>
            <a:fld id="{203A84B3-2D81-4E79-8C68-E2AD88207B69}" type="slidenum">
              <a:rPr b="0" lang="en-US" sz="1000" spc="-1" strike="noStrike">
                <a:solidFill>
                  <a:srgbClr val="666666"/>
                </a:solidFill>
                <a:latin typeface="Tele-GroteskH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603600" y="6364080"/>
            <a:ext cx="2085840" cy="1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666666"/>
                </a:solidFill>
                <a:latin typeface="Tele-GroteskHal"/>
              </a:defRPr>
            </a:lvl1pPr>
          </a:lstStyle>
          <a:p>
            <a:pPr indent="0" algn="ctr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DOAG – SIG Development - A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602160" y="6477120"/>
            <a:ext cx="20872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666666"/>
                </a:solidFill>
                <a:latin typeface="Tele-GroteskHal"/>
              </a:defRPr>
            </a:lvl1pPr>
          </a:lstStyle>
          <a:p>
            <a:pPr indent="0" algn="ctr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Michael Forster / Dietmar A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4520" y="6265800"/>
            <a:ext cx="184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9999"/>
                </a:solidFill>
                <a:latin typeface="TeleLogo"/>
              </a:rPr>
              <a:t>!!!</a:t>
            </a:r>
            <a:r>
              <a:rPr b="0" lang="de-DE" sz="2400" spc="-1" strike="noStrike">
                <a:solidFill>
                  <a:srgbClr val="e20074"/>
                </a:solidFill>
                <a:latin typeface="TeleLogo"/>
              </a:rPr>
              <a:t>"</a:t>
            </a:r>
            <a:r>
              <a:rPr b="0" lang="de-DE" sz="2400" spc="-1" strike="noStrike">
                <a:solidFill>
                  <a:srgbClr val="999999"/>
                </a:solidFill>
                <a:latin typeface="TeleLogo"/>
              </a:rPr>
              <a:t>§§§Punkt</a:t>
            </a:r>
            <a:r>
              <a:rPr b="0" lang="en-US" sz="2400" spc="-1" strike="noStrike">
                <a:solidFill>
                  <a:srgbClr val="999999"/>
                </a:solidFill>
                <a:latin typeface="TeleLogo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261200" y="6265800"/>
            <a:ext cx="1631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054920" y="6265800"/>
            <a:ext cx="1560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opal_logo_50px_hoch" descr=""/>
          <p:cNvPicPr/>
          <p:nvPr/>
        </p:nvPicPr>
        <p:blipFill>
          <a:blip r:embed="rId2"/>
          <a:stretch/>
        </p:blipFill>
        <p:spPr>
          <a:xfrm>
            <a:off x="7542360" y="6292800"/>
            <a:ext cx="84744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61480" y="2918880"/>
            <a:ext cx="752652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20074"/>
                </a:solidFill>
                <a:latin typeface="Tele-Antiqua"/>
              </a:rPr>
              <a:t>Click to edit the title text format</a:t>
            </a:r>
            <a:endParaRPr b="0" lang="en-US" sz="34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46" name=""/>
          <p:cNvSpPr/>
          <p:nvPr/>
        </p:nvSpPr>
        <p:spPr>
          <a:xfrm>
            <a:off x="703080" y="6265800"/>
            <a:ext cx="184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9999"/>
                </a:solidFill>
                <a:latin typeface="TeleLogo"/>
              </a:rPr>
              <a:t>!!!</a:t>
            </a:r>
            <a:r>
              <a:rPr b="0" lang="de-DE" sz="2400" spc="-1" strike="noStrike">
                <a:solidFill>
                  <a:srgbClr val="e20074"/>
                </a:solidFill>
                <a:latin typeface="TeleLogo"/>
              </a:rPr>
              <a:t>"</a:t>
            </a:r>
            <a:r>
              <a:rPr b="0" lang="de-DE" sz="2400" spc="-1" strike="noStrike">
                <a:solidFill>
                  <a:srgbClr val="999999"/>
                </a:solidFill>
                <a:latin typeface="TeleLogo"/>
              </a:rPr>
              <a:t>§§§Punkt</a:t>
            </a:r>
            <a:r>
              <a:rPr b="0" lang="en-US" sz="2400" spc="-1" strike="noStrike">
                <a:solidFill>
                  <a:srgbClr val="999999"/>
                </a:solidFill>
                <a:latin typeface="TeleLogo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pal_logo_50px_hoch" descr=""/>
          <p:cNvPicPr/>
          <p:nvPr/>
        </p:nvPicPr>
        <p:blipFill>
          <a:blip r:embed="rId2"/>
          <a:stretch/>
        </p:blipFill>
        <p:spPr>
          <a:xfrm>
            <a:off x="7542360" y="6292800"/>
            <a:ext cx="847440" cy="368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Tele-GroteskHal"/>
              </a:rPr>
              <a:t>Click to edit the outline text format</a:t>
            </a:r>
            <a:endParaRPr b="0" lang="en-US" sz="1600" spc="-1" strike="noStrike">
              <a:solidFill>
                <a:srgbClr val="666666"/>
              </a:solidFill>
              <a:latin typeface="Tele-GroteskHal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H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2" algn="ctr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3" algn="ctr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Tele-GroteskNor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4" algn="ctr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Tele-GroteskNor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cbr.com/docs/products/dhtmlxTree/" TargetMode="External"/><Relationship Id="rId2" Type="http://schemas.openxmlformats.org/officeDocument/2006/relationships/hyperlink" Target="http://www.iconexperience.com/" TargetMode="External"/><Relationship Id="rId3" Type="http://schemas.openxmlformats.org/officeDocument/2006/relationships/hyperlink" Target="http://www.aptana.com/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1480" y="2918880"/>
            <a:ext cx="775980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e20074"/>
                </a:solidFill>
                <a:latin typeface="Tele-Antiqua"/>
              </a:rPr>
              <a:t>DOAG: SIG Development</a:t>
            </a:r>
            <a:br>
              <a:rPr sz="3400"/>
            </a:br>
            <a:r>
              <a:rPr b="0" lang="de-DE" sz="2600" spc="-1" strike="noStrike">
                <a:solidFill>
                  <a:srgbClr val="e20074"/>
                </a:solidFill>
                <a:latin typeface="Tele-Antiqua"/>
              </a:rPr>
              <a:t>Absatzerfassung im T-Punkt (AbiT)</a:t>
            </a:r>
            <a:endParaRPr b="0" lang="en-US" sz="26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3560" y="4431960"/>
            <a:ext cx="753588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Tele-Antiqua"/>
              </a:rPr>
              <a:t>Michael Forster / Dietmar Aust</a:t>
            </a:r>
            <a:endParaRPr b="0" lang="en-US" sz="2000" spc="-1" strike="noStrike">
              <a:solidFill>
                <a:srgbClr val="666666"/>
              </a:solidFill>
              <a:latin typeface="Tele-GroteskHal"/>
            </a:endParaRPr>
          </a:p>
          <a:p>
            <a:pPr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Tele-Antiqua"/>
              </a:rPr>
              <a:t>31. Mai 2007</a:t>
            </a:r>
            <a:endParaRPr b="0" lang="en-US" sz="2000" spc="-1" strike="noStrike">
              <a:solidFill>
                <a:srgbClr val="666666"/>
              </a:solidFill>
              <a:latin typeface="Tele-GroteskHal"/>
            </a:endParaRPr>
          </a:p>
          <a:p>
            <a:pPr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Tele-GroteskH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Historische Ansätze und Probleme 2 / 3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21" name=""/>
          <p:cNvSpPr/>
          <p:nvPr/>
        </p:nvSpPr>
        <p:spPr>
          <a:xfrm>
            <a:off x="863640" y="1157400"/>
            <a:ext cx="788652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22920" y="1449360"/>
            <a:ext cx="3852720" cy="471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Der Aufwand für die interne Buchführung der Mitarbeiter st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Schlangen hinter den Kassen beim Tagesabschl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Erfolgreiche Einführung des DWH macht Appetit auf mehr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8200" y="1487520"/>
            <a:ext cx="4068720" cy="4716360"/>
          </a:xfrm>
          <a:prstGeom prst="rightArrow">
            <a:avLst>
              <a:gd name="adj1" fmla="val 100000"/>
              <a:gd name="adj2" fmla="val 1369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Erweiterung der Scan Code Systematik auf 40 Scan Co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Etablierung eines Data Warehouse zur Vertriebssteu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8200" y="1090440"/>
            <a:ext cx="352908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ele-GroteskHal"/>
              </a:rPr>
              <a:t>Quartal 2 2006: 40 Scan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22920" y="1090440"/>
            <a:ext cx="385272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le-GroteskHal"/>
              </a:rPr>
              <a:t>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E3A2-416A-4C0C-8859-5190D92D2D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Historische Ansätze und Probleme 3 / 3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27" name=""/>
          <p:cNvSpPr/>
          <p:nvPr/>
        </p:nvSpPr>
        <p:spPr>
          <a:xfrm>
            <a:off x="863640" y="1157400"/>
            <a:ext cx="788652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22920" y="1449360"/>
            <a:ext cx="3852720" cy="471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Der Aufwand ist für den Mitarbeiter nicht mehr nachvollziehbar. Steigende Beschwerden vom und beim Betriebsr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Mitarbeiter machen ihren Tagesabschluss oft noch weit hinter der regulären Arbeitsz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Einführung neuer Produkte hätte Scan Code Liste auf über 90 Einträge wachsen 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Ärger mit Konzernrevision, da Mitarbeitervergütung keinen Bezug mehr zum Originalauftrag h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Beschluss der Geschäftsführung, im vierten Quartal eine revisionssichere Variante der Absatzerfassung im T-Punkt zu etablieren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8200" y="1487520"/>
            <a:ext cx="4068720" cy="4716360"/>
          </a:xfrm>
          <a:prstGeom prst="rightArrow">
            <a:avLst>
              <a:gd name="adj1" fmla="val 100000"/>
              <a:gd name="adj2" fmla="val 1369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Erweiterung der Scan Code Systematik auf 68 Scan Co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8200" y="1090440"/>
            <a:ext cx="352908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ele-GroteskHal"/>
              </a:rPr>
              <a:t>Quartal 3 2006: 68 Scan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2920" y="1090440"/>
            <a:ext cx="385272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le-GroteskHal"/>
              </a:rPr>
              <a:t>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47A5-1065-4662-A73C-B09854DCC6B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Anforderungen an eine Dialogerfassung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33" name=""/>
          <p:cNvSpPr/>
          <p:nvPr/>
        </p:nvSpPr>
        <p:spPr>
          <a:xfrm>
            <a:off x="863640" y="1157400"/>
            <a:ext cx="788652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22920" y="1449360"/>
            <a:ext cx="3852720" cy="471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Entwicklung eines Eingabedialoges zur Erfassung des mitarbeiterspezifischen relevanten und nicht relevanten Absatzes zur Speicherung in 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Realisierung einer Schnittstelle zum Abrechn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Schnelle und einfache Bedien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Hohe Verfügbarkeit für die über 5.000 Mitarbeiter im T-Punk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Konzeption, Abstimmung mit dem Sozialpartner, Realisierung und Einführung innerhalb von drei Mon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8200" y="1487520"/>
            <a:ext cx="4068720" cy="4716360"/>
          </a:xfrm>
          <a:prstGeom prst="rightArrow">
            <a:avLst>
              <a:gd name="adj1" fmla="val 100000"/>
              <a:gd name="adj2" fmla="val 1369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Abschaffung der Scan Code Syste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Herstellung der Revisionssicherh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Berücksichtigung der Anforderungen aus dem Vetriebsmonitor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Neue Anforderung: Nachweis über den Verkauf subventionierter End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Arbeitsentlastung für den Mitarbeiter im T-Punk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8200" y="1090440"/>
            <a:ext cx="352908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le-GroteskHal"/>
              </a:rPr>
              <a:t>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22920" y="1090440"/>
            <a:ext cx="385272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le-GroteskHal"/>
              </a:rPr>
              <a:t>Zielset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D259-BD3D-467C-8A82-0716C721495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Der Projektverlauf aus Kundensicht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157400"/>
            <a:ext cx="752616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Oracle Application Express war bis dahin kein strategisches Produkt innerhalb der IT der TPG, sondern wurde durch den Lieferanten mitgebra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Wir waren froh, überhaupt jemanden gefunden zu haben, der sich ein solches Projekt in einer so kurzen Zeit zutr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Effektive Realisierungsdauer 4 Wochen + 2 Wochen Pilotierung in ausgewählten T-Punk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Wechselnde Anforderungen der TPG bis kurz vor Projekte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Verzicht auf Last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Pünktliche Systemeinführung am Sonntag, den 01.10.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A4C6-277A-4BFC-A667-13D94FAF240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Probleme mit AbiT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41" name=""/>
          <p:cNvSpPr/>
          <p:nvPr/>
        </p:nvSpPr>
        <p:spPr>
          <a:xfrm>
            <a:off x="863640" y="1157400"/>
            <a:ext cx="752616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Performance-Einbruch am Montag, den 02.10.2006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4 Stunden Systemausf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Pilot T-Punkte erfassten ihre Absätze in den ersten 10 Tagen weiterhin in der Testumgeb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Performance Probleme bei der Schnittstelle zum Abrechnungs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Performance Probleme auf einigen Rechnern bei der Arbeit mit den Produktauswahl-Dial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Ausfall eines Datenbank-Clusters zwischen Weihnachten und Neujah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4 Stunden Systemausf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Kleinere Applikationsfehler, die anschließende Datenkorrekturen erforde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05AA-3556-446E-9076-51C80DCAE4F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Fazit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43" name=""/>
          <p:cNvSpPr/>
          <p:nvPr/>
        </p:nvSpPr>
        <p:spPr>
          <a:xfrm>
            <a:off x="863640" y="1157400"/>
            <a:ext cx="752616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biT wurde in kürzester Zeit von den Mitarbeiter in den T-Punkten akzeptiert und als Arbeitserleichterung empfu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biT ist eines der stabilsten und performantesten Systeme, welches in den T-Punkten im Einsatz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CC85-34D7-4373-93B6-665A812CF5F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e20074"/>
                </a:solidFill>
                <a:latin typeface="Tele-Antiqua"/>
              </a:rPr>
              <a:t>Vorstellung Opal-Consulting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ele-GroteskHal"/>
              </a:rPr>
              <a:t>Dipl.-Inform. Dietmar Aust, Freelance Consultant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ele-GroteskHal"/>
              </a:rPr>
              <a:t>1997-2000: Consultant bei der Oracle Deutschland GmbH / Düsseldorf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Schwerpunkte: Oracle Portal, Oracle Reports, Oracle Forms, PL/SQL, PLSQL Web Toolkit (OWA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ele-GroteskHal"/>
              </a:rPr>
              <a:t>Seit 09/2000: Freiberuflich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Schwerpunkte: Oracle Portal, Oracle Reports, Oracle Application Express, Oracle Express Edition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ktivität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http://daust.blogspot.com/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http://forums.oracle.com/forums/forum.jspa?forumID=137 (Apex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http://forums.oracle.com/forums/forum.jspa?forumID=251 (XE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AB68-0408-4188-BCDF-D9DEAADAAF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Technische Infrastruktur 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Hardware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54440" y="3244680"/>
            <a:ext cx="395280" cy="419400"/>
          </a:xfrm>
          <a:prstGeom prst="rect">
            <a:avLst/>
          </a:prstGeom>
          <a:ln w="0">
            <a:noFill/>
          </a:ln>
        </p:spPr>
      </p:pic>
      <p:pic>
        <p:nvPicPr>
          <p:cNvPr id="148" name="computer_medium_white" descr=""/>
          <p:cNvPicPr/>
          <p:nvPr/>
        </p:nvPicPr>
        <p:blipFill>
          <a:blip r:embed="rId2"/>
          <a:stretch/>
        </p:blipFill>
        <p:spPr>
          <a:xfrm>
            <a:off x="1201680" y="3038400"/>
            <a:ext cx="750960" cy="838440"/>
          </a:xfrm>
          <a:prstGeom prst="rect">
            <a:avLst/>
          </a:prstGeom>
          <a:ln w="0">
            <a:noFill/>
          </a:ln>
        </p:spPr>
      </p:pic>
      <p:cxnSp>
        <p:nvCxnSpPr>
          <p:cNvPr id="149" name=""/>
          <p:cNvCxnSpPr>
            <a:stCxn id="148" idx="3"/>
            <a:endCxn id="147" idx="1"/>
          </p:cNvCxnSpPr>
          <p:nvPr/>
        </p:nvCxnSpPr>
        <p:spPr>
          <a:xfrm flipV="1">
            <a:off x="1952280" y="3454200"/>
            <a:ext cx="9025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092320" y="3187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064280" y="2719440"/>
            <a:ext cx="82260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827760" y="2986200"/>
            <a:ext cx="822240" cy="914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584600" y="1633680"/>
            <a:ext cx="601920" cy="1371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4584600" y="3348000"/>
            <a:ext cx="601920" cy="1371600"/>
          </a:xfrm>
          <a:prstGeom prst="rect">
            <a:avLst/>
          </a:prstGeom>
          <a:ln w="0">
            <a:noFill/>
          </a:ln>
        </p:spPr>
      </p:pic>
      <p:cxnSp>
        <p:nvCxnSpPr>
          <p:cNvPr id="155" name=""/>
          <p:cNvCxnSpPr>
            <a:stCxn id="147" idx="3"/>
            <a:endCxn id="153" idx="1"/>
          </p:cNvCxnSpPr>
          <p:nvPr/>
        </p:nvCxnSpPr>
        <p:spPr>
          <a:xfrm flipV="1">
            <a:off x="3249720" y="2318760"/>
            <a:ext cx="1335600" cy="11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7" idx="3"/>
            <a:endCxn id="154" idx="1"/>
          </p:cNvCxnSpPr>
          <p:nvPr/>
        </p:nvCxnSpPr>
        <p:spPr>
          <a:xfrm>
            <a:off x="3249720" y="3454200"/>
            <a:ext cx="1335600" cy="57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3"/>
            <a:endCxn id="152" idx="1"/>
          </p:cNvCxnSpPr>
          <p:nvPr/>
        </p:nvCxnSpPr>
        <p:spPr>
          <a:xfrm flipV="1">
            <a:off x="5186160" y="3443040"/>
            <a:ext cx="16419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3" idx="3"/>
            <a:endCxn id="152" idx="1"/>
          </p:cNvCxnSpPr>
          <p:nvPr/>
        </p:nvCxnSpPr>
        <p:spPr>
          <a:xfrm>
            <a:off x="5186160" y="2319480"/>
            <a:ext cx="1641960" cy="11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2625840" y="3735360"/>
            <a:ext cx="8935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ele-GroteskNor"/>
              </a:rPr>
              <a:t>Hardware Load Bal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40240" y="4865760"/>
            <a:ext cx="8938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ele-GroteskNor"/>
              </a:rPr>
              <a:t>Application Server 1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ele-GroteskNor"/>
              </a:rPr>
              <a:t>10.1.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95960" y="1100160"/>
            <a:ext cx="8935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ele-GroteskNor"/>
              </a:rPr>
              <a:t>Application Server 2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ele-GroteskNor"/>
              </a:rPr>
              <a:t>10.1.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93000" y="4148280"/>
            <a:ext cx="893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ele-GroteskNor"/>
              </a:rPr>
              <a:t>Oracle RAC 10.2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41600" y="279396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89640" y="2475000"/>
            <a:ext cx="81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QL*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89640" y="3789360"/>
            <a:ext cx="81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QL*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40040" y="34862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EAD4-AFDE-4507-95BD-D0A1A30D3E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Technische Infrastruktur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Konfiguration Datenbank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Datenbank-Server (2 Knoten im RAC Cluster)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Maschine: Sun Fire V490 Server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CPUs: 2 Dual Core CPUs (4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RAM: 8GB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Betriebssystem: Solaris 10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Oracle Datenbank 10.2.0.1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Oracle Application Express 2.2.1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pplikations--Server (2x)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Maschine: Fujitsu Siemens RX 300 S2 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CPUs: 2 Hyperthreading CPUs(4HT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RAM: 8GB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Betriebssystem: Linux RH AS4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Oracle </a:t>
            </a: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Application Server 10.1.3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F8ED-41BF-468D-B674-A56E944B114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Technische Infrastruktur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Nutzung &amp; Auslastung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ele-GroteskHal"/>
              </a:rPr>
              <a:t>Nutzung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User / Tag</a:t>
            </a: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: 3500 pro Tag aktiv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Aufträge / Tag</a:t>
            </a: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:  20.000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Zugriffszahlen</a:t>
            </a: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: 400.000 Hits pro Tag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uslastung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Application Server: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2" marL="1344600" indent="-26820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Serverauslastung: &gt;95% idle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2" marL="1344600" indent="-26820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#http Sessions: 30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2" marL="13446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Datenbank Server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2" marL="1344600" indent="-26820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Serverauslastung: 30%  (bei Ausfall eines Knotens 70%)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2" marL="1344600" indent="-26820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Sessions: 25-35 concurrent (pro Knoten)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2" marL="1344600" indent="-26820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Jede Http Session öffnet eine Datenbank-Session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2" marL="1344600" indent="-26820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Dedicated, kein Shared Server (MTS)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ABDD-FDB9-43ED-BE98-7FB0628D81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Agenda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95" name=""/>
          <p:cNvSpPr/>
          <p:nvPr/>
        </p:nvSpPr>
        <p:spPr>
          <a:xfrm>
            <a:off x="863640" y="1157400"/>
            <a:ext cx="752616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Vorstellung T-Punkt Vertriebsgesellschaft 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Hintergrund und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Vorstellung Opal-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Technische Infrastruk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Umset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4DE5-F74D-4B25-AF54-89E0E33FB3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e20074"/>
                </a:solidFill>
                <a:latin typeface="Tele-Antiqua"/>
              </a:rPr>
              <a:t>Technische Infrastruktur</a:t>
            </a:r>
            <a:br>
              <a:rPr sz="2300"/>
            </a:br>
            <a:r>
              <a:rPr b="0" lang="de-DE" sz="2100" spc="-1" strike="noStrike">
                <a:solidFill>
                  <a:srgbClr val="666666"/>
                </a:solidFill>
                <a:latin typeface="Tele-Antiqua"/>
              </a:rPr>
              <a:t>Nutzung &amp; Auslastung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pic>
        <p:nvPicPr>
          <p:cNvPr id="172" name="SNAG-0000" descr=""/>
          <p:cNvPicPr/>
          <p:nvPr/>
        </p:nvPicPr>
        <p:blipFill>
          <a:blip r:embed="rId1"/>
          <a:stretch/>
        </p:blipFill>
        <p:spPr>
          <a:xfrm>
            <a:off x="633240" y="1004760"/>
            <a:ext cx="818208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3DE0-A17D-448B-8C60-75171979600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Technische Infrastruktur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Performance Probleme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999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ele-GroteskHal"/>
              </a:rPr>
              <a:t>Performance Probleme</a:t>
            </a:r>
            <a:endParaRPr b="0" lang="en-US" sz="2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Mehrere hundert Sessions in der Datenbank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Default 150 Sessions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&gt;600 http Sessions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&gt;600 Datenbank-Sessions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999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ele-GroteskHal"/>
              </a:rPr>
              <a:t>Wie funktioniert mod_plsql?</a:t>
            </a:r>
            <a:endParaRPr b="0" lang="en-US" sz="2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Eine Datenbank-Session pro http Prozess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Egal, ob Image oder Datenbank-Request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Keep alive hält Connection für http Client 15 Sekunden off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999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ele-GroteskHal"/>
              </a:rPr>
              <a:t>Lösung: </a:t>
            </a:r>
            <a:endParaRPr b="0" lang="en-US" sz="2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Keep alive=off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Caching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0179-3924-4BFB-BA8D-C08A658824C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e20074"/>
                </a:solidFill>
                <a:latin typeface="Tele-Antiqua"/>
              </a:rPr>
              <a:t>Technische Infrastruktur</a:t>
            </a:r>
            <a:br>
              <a:rPr sz="2300"/>
            </a:br>
            <a:r>
              <a:rPr b="0" lang="de-DE" sz="2300" spc="-1" strike="noStrike">
                <a:solidFill>
                  <a:srgbClr val="e20074"/>
                </a:solidFill>
                <a:latin typeface="Tele-Antiqua"/>
              </a:rPr>
              <a:t> </a:t>
            </a:r>
            <a:r>
              <a:rPr b="0" lang="de-DE" sz="2100" spc="-1" strike="noStrike">
                <a:solidFill>
                  <a:srgbClr val="666666"/>
                </a:solidFill>
                <a:latin typeface="Tele-Antiqua"/>
              </a:rPr>
              <a:t>Konfiguration Application Server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999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le-GroteskHal"/>
              </a:rPr>
              <a:t>Oracle </a:t>
            </a:r>
            <a:r>
              <a:rPr b="0" lang="de-DE" sz="2400" spc="-1" strike="noStrike">
                <a:solidFill>
                  <a:srgbClr val="000000"/>
                </a:solidFill>
                <a:latin typeface="Tele-GroteskHal"/>
              </a:rPr>
              <a:t>Application Server 10.1.3.0 Konfiguration</a:t>
            </a:r>
            <a:endParaRPr b="0" lang="en-US" sz="24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Httpd.conf</a:t>
            </a:r>
            <a:br>
              <a:rPr sz="20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KeepAlive off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MaxClients 350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Port 80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Listen 80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writeEngine 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writeRule ^/$                http://abit-tpg.telekom.de/pls/apex/f?p=abit:1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                     [R,L]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writeRule ^/abit$            http://abit-tpg.telekom.de/pls/apex/f?p=abit:1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                     [R=301]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writeRule ^/abit_login(.*)   http://abit-tpg.telekom.de/pls/apex/f?p=abit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                     shortcut:::NO::P651_ACTION,P651_PARAMETERS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                     :ABIT_LOGIN,$1, [R,L]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0">
              <a:lnSpc>
                <a:spcPct val="75000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ele-GroteskHal"/>
              </a:rPr>
              <a:t>marvel.conf</a:t>
            </a:r>
            <a:br>
              <a:rPr sz="20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Alias /i/ "/ag/oracle/appserver_1/apex/images/„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Directory "/ag/oracle/appserver_1/apex/images/"&gt;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AllowOverride Non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Order allow,deny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Allow from all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&lt;IfModule mod_expires.c&gt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ExpiresActive 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ExpiresDefault "access plus 1 hour„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&lt;/IfModule&gt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/Directory&gt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AC80-A099-4B35-B3AF-D126CF746A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Übersicht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ufbau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23 Seiten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Erfassung mit und ohne Login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Erfassungsseite komplex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Herausforderung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Hochverfügbar (07:00 – 22:00, 7 Tage die Woche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Performant bei 5000 Usern und 20.000 Aufträgen pro Tag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Realisierung in nur 6 Wochen (davon 2 Wochen Pilotierung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Anforderungen während der Entwicklung geändert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Erfassungsdialoge stark optimiert (Produktauswahl 50% der Seitenaufrufe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pic>
        <p:nvPicPr>
          <p:cNvPr id="179" name="SNAG-0003" descr=""/>
          <p:cNvPicPr/>
          <p:nvPr/>
        </p:nvPicPr>
        <p:blipFill>
          <a:blip r:embed="rId1"/>
          <a:stretch/>
        </p:blipFill>
        <p:spPr>
          <a:xfrm>
            <a:off x="4797360" y="1174680"/>
            <a:ext cx="1432080" cy="13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3C5C-6402-45EB-B938-8840287AF2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Erfassungsseite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41280" y="1174680"/>
          <a:ext cx="675828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1280" y="1174680"/>
                    <a:ext cx="675828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5705640" y="1536840"/>
            <a:ext cx="1414440" cy="336240"/>
          </a:xfrm>
          <a:prstGeom prst="wedgeRoundRectCallout">
            <a:avLst>
              <a:gd name="adj1" fmla="val -81875"/>
              <a:gd name="adj2" fmla="val 128773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SCB / 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11960" y="2054160"/>
            <a:ext cx="1414440" cy="336600"/>
          </a:xfrm>
          <a:prstGeom prst="wedgeRoundRectCallout">
            <a:avLst>
              <a:gd name="adj1" fmla="val -47981"/>
              <a:gd name="adj2" fmla="val 172171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Produktauswa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3697200"/>
            <a:ext cx="1414440" cy="336600"/>
          </a:xfrm>
          <a:prstGeom prst="wedgeRoundRectCallout">
            <a:avLst>
              <a:gd name="adj1" fmla="val 105333"/>
              <a:gd name="adj2" fmla="val -158018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Favor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90840" y="5613480"/>
            <a:ext cx="1414440" cy="336600"/>
          </a:xfrm>
          <a:prstGeom prst="wedgeRoundRectCallout">
            <a:avLst>
              <a:gd name="adj1" fmla="val 108472"/>
              <a:gd name="adj2" fmla="val -106134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Warenkö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75DE-164C-4F97-96AE-EE6932C2B34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851040" y="1227240"/>
          <a:ext cx="7538760" cy="48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1227240"/>
                    <a:ext cx="753876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Produktdialog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90" name=""/>
          <p:cNvSpPr/>
          <p:nvPr/>
        </p:nvSpPr>
        <p:spPr>
          <a:xfrm>
            <a:off x="5703840" y="4921200"/>
            <a:ext cx="1414440" cy="336600"/>
          </a:xfrm>
          <a:prstGeom prst="wedgeRoundRectCallout">
            <a:avLst>
              <a:gd name="adj1" fmla="val -166"/>
              <a:gd name="adj2" fmla="val -398111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Produktli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27320" y="4753080"/>
            <a:ext cx="1414440" cy="336600"/>
          </a:xfrm>
          <a:prstGeom prst="wedgeRoundRectCallout">
            <a:avLst>
              <a:gd name="adj1" fmla="val -34064"/>
              <a:gd name="adj2" fmla="val -183962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Produktstrukt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03520" y="658800"/>
            <a:ext cx="1414440" cy="336600"/>
          </a:xfrm>
          <a:prstGeom prst="wedgeRoundRectCallout">
            <a:avLst>
              <a:gd name="adj1" fmla="val 66050"/>
              <a:gd name="adj2" fmla="val 201416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Warenko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4694-7B87-4501-84B5-BF82DD55766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Produktdialog – Live Demo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uftrag erfass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Produktauswah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Favorit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jax, wo es sinnvoll ist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pex Baumdarstellungen nicht geeignet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pic>
        <p:nvPicPr>
          <p:cNvPr id="195" name="computer_medium_white" descr=""/>
          <p:cNvPicPr/>
          <p:nvPr/>
        </p:nvPicPr>
        <p:blipFill>
          <a:blip r:embed="rId1"/>
          <a:stretch/>
        </p:blipFill>
        <p:spPr>
          <a:xfrm>
            <a:off x="5662440" y="1174680"/>
            <a:ext cx="1998720" cy="22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1E44-ABC4-4F8C-AA10-D8754F84C5B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Produktdialog - Implementierung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3720" indent="-24372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Probleme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-24264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Apex Tree nicht nutzbar (xhtmlTree ; DHTML; lazy loading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-24264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Warenkorb: 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2" marL="1223280" indent="-24372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Ajax normalerweise von Hand Bericht erzeugen (Funktionalität nachbauen)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2" marL="1223280" indent="-24372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Aktualisierung einer Region mit Javascript (PPR Bericht ohne API)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2" marL="1223280" indent="-24372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Nutzung der Apex PPR Berichte – Basisfunktionalität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marL="243720" indent="-24372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PPR SQL Bericht erstell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-24264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No data found: 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&lt;div class="PPRTARGET"&gt;Der Warenkorb ist leer.&lt;/div&gt;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-24264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Regions-Footer:</a:t>
            </a: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&lt;REGION NAME="REGION_WARENKORB_BP" type="REPORT" /&gt;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marL="243720" indent="-24372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Javascript library ApexRegio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ApexRegion.prototype = </a:t>
            </a: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getRegionName: function(){return this.regionName},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ele-GroteskHal"/>
              </a:rPr>
              <a:t>refresh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:function(){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var refreshUrl = 'f?p=' + apexAppId + ':'+ apexPageId + ':' + apexSession + ':pg_R_' + this.regionId.substring(1,this.regionId.length) + ':NO&amp;pg_min_row=' + this.firstRowFetched + '&amp;pg_max_rows=' + this.maxRows + '&amp;pg_rows_fetched='+ this.maxRows;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      …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Tele-GroteskHal"/>
              </a:rPr>
              <a:t>html_PPR_Report_Page(null,this.regionId,refreshUrl);}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198" name=""/>
          <p:cNvSpPr/>
          <p:nvPr/>
        </p:nvSpPr>
        <p:spPr>
          <a:xfrm>
            <a:off x="5808600" y="4162320"/>
            <a:ext cx="1454040" cy="336600"/>
          </a:xfrm>
          <a:prstGeom prst="wedgeRoundRectCallout">
            <a:avLst>
              <a:gd name="adj1" fmla="val -255893"/>
              <a:gd name="adj2" fmla="val 113208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Funktion Refre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0280" y="5978520"/>
            <a:ext cx="2179800" cy="336600"/>
          </a:xfrm>
          <a:prstGeom prst="wedgeRoundRectCallout">
            <a:avLst>
              <a:gd name="adj1" fmla="val 58157"/>
              <a:gd name="adj2" fmla="val -69810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Apex PPR Funktionalitä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A4E9-CF36-43C6-AFAE-F0103C303C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Produktdialog - Implementierung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ufruf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function p202_add_produkt_to_warenkorb(pProduktId, pProduktAnzahlField, pProduktPreisField, pIstBundleProdukt)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...  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lErrCode = </a:t>
            </a:r>
            <a:r>
              <a:rPr b="1" i="1" lang="de-DE" sz="1400" spc="-1" strike="noStrike">
                <a:solidFill>
                  <a:srgbClr val="000000"/>
                </a:solidFill>
                <a:latin typeface="Tele-GroteskHal"/>
              </a:rPr>
              <a:t>addProduktToWarenkorbAjax</a:t>
            </a: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(pProduktId, pProduktAnzahlField.value, pProduktPreisField ? pProduktPreisField.value : null, pIstBundleProdukt, pRetVals, '0');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caller.$x('P1_AUFTRAG_ID').value = pRetVals.auftragId;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// refresh current Warenkorb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 </a:t>
            </a:r>
            <a:r>
              <a:rPr b="1" i="1" lang="de-DE" sz="1400" spc="-1" strike="noStrike">
                <a:solidFill>
                  <a:srgbClr val="000000"/>
                </a:solidFill>
                <a:latin typeface="Tele-GroteskHal"/>
              </a:rPr>
              <a:t>apexGetRegionByName('REGION_WARENKORB_BP').refresh();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// refresh Warenkorb in calling page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 </a:t>
            </a:r>
            <a:r>
              <a:rPr b="1" i="1" lang="de-DE" sz="1400" spc="-1" strike="noStrike">
                <a:solidFill>
                  <a:srgbClr val="000000"/>
                </a:solidFill>
                <a:latin typeface="Tele-GroteskHal"/>
              </a:rPr>
              <a:t>caller.apexGetRegionByName('REGION_WARENKORB_BP').refresh();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Einschränkung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Ohne Pagination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Ansteuerung über API =&gt; Pagination wird zurückgesetzt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202" name=""/>
          <p:cNvSpPr/>
          <p:nvPr/>
        </p:nvSpPr>
        <p:spPr>
          <a:xfrm>
            <a:off x="5575320" y="2678040"/>
            <a:ext cx="2027160" cy="336600"/>
          </a:xfrm>
          <a:prstGeom prst="wedgeRoundRectCallout">
            <a:avLst>
              <a:gd name="adj1" fmla="val -69967"/>
              <a:gd name="adj2" fmla="val 141037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Warenkorb aktuali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10360" y="4513320"/>
            <a:ext cx="2179440" cy="336600"/>
          </a:xfrm>
          <a:prstGeom prst="wedgeRoundRectCallout">
            <a:avLst>
              <a:gd name="adj1" fmla="val -50875"/>
              <a:gd name="adj2" fmla="val -208018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Warenkorb auf Erfassungsseite aktuali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1880" y="838080"/>
            <a:ext cx="2179800" cy="336600"/>
          </a:xfrm>
          <a:prstGeom prst="wedgeRoundRectCallout">
            <a:avLst>
              <a:gd name="adj1" fmla="val -125601"/>
              <a:gd name="adj2" fmla="val 351416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Produkte mit AJAX speich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D713-E149-47FE-A79A-AB3C363D555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de-DE" sz="2100" spc="-1" strike="noStrike">
                <a:solidFill>
                  <a:srgbClr val="666666"/>
                </a:solidFill>
                <a:latin typeface="Tele-Antiqua"/>
              </a:rPr>
              <a:t>Nested Reports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49120" indent="0">
              <a:lnSpc>
                <a:spcPct val="6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49120" indent="0">
              <a:lnSpc>
                <a:spcPct val="6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49120" indent="-249120">
              <a:lnSpc>
                <a:spcPct val="65000"/>
              </a:lnSpc>
              <a:spcBef>
                <a:spcPts val="1749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Stored function liefert HTML </a:t>
            </a: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(http://daust.blogspot.com/2007/03/apex-nested-reports.html)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FUNCTION get_emps_inline_f (p_deptno NUMBER)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RETURN VARCHAR2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str   VARCHAR2 (32767)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cnt   NUMBER           := 0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str    := '&lt;table class="inlineTable"&gt;'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str    := l_str || '&lt;tr&gt;&lt;th&gt;No.&lt;/th&gt;&lt;th&gt;Name&lt;/th&gt;&lt;th&gt;Job&lt;/th&gt;&lt;th&gt;Salary&lt;/th&gt;&lt;/tr&gt;'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FOR cur IN (SELECT   empno, ename, job, sal,  FROM emp  WHERE deptno = p_deptno  ORDER BY ename)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OOP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str    := l_str || '&lt;tr&gt;'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str    := l_str || '&lt;td&gt;'|| cur.empno || '&lt;/td&gt;&lt;td&gt;' || cur.ename || '&lt;/td&gt;&lt;td&gt;' || cur.job || '&lt;/td&gt;&lt;td&gt;' || cur.sal  || '&lt;/td&gt;'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str    := l_str || '&lt;/tr&gt;'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cnt    := l_cnt + 1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END LOOP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str    := l_str || '&lt;/table&gt;'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IF l_cnt = 0   THEN   RETURN '';   ELSE  RETURN l_str;   END IF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marL="249120" indent="-249120">
              <a:lnSpc>
                <a:spcPct val="65000"/>
              </a:lnSpc>
              <a:spcBef>
                <a:spcPts val="2251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Aufruf in SQL Region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SELECT dept.*,</a:t>
            </a:r>
            <a:r>
              <a:rPr b="1" lang="en-GB" sz="1400" spc="-1" strike="noStrike">
                <a:solidFill>
                  <a:srgbClr val="000000"/>
                </a:solidFill>
                <a:latin typeface="Tele-GroteskHal"/>
              </a:rPr>
              <a:t>get_emps_inline_f (deptno)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 employees</a:t>
            </a: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FROM dept 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</p:txBody>
      </p:sp>
      <p:pic>
        <p:nvPicPr>
          <p:cNvPr id="207" name="capture_002" descr=""/>
          <p:cNvPicPr/>
          <p:nvPr/>
        </p:nvPicPr>
        <p:blipFill>
          <a:blip r:embed="rId1"/>
          <a:stretch/>
        </p:blipFill>
        <p:spPr>
          <a:xfrm>
            <a:off x="1143000" y="836640"/>
            <a:ext cx="6289560" cy="118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12B2-DF51-4028-8E19-976D996F3D0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Die T-Punkt Vertriebsgesellschaft im Konzern.</a:t>
            </a:r>
            <a:br>
              <a:rPr sz="2300"/>
            </a:br>
            <a:r>
              <a:rPr b="0" lang="en-US" sz="2300" spc="-1" strike="noStrike">
                <a:solidFill>
                  <a:srgbClr val="666666"/>
                </a:solidFill>
                <a:latin typeface="Tele-Antiqua"/>
              </a:rPr>
              <a:t>Vertriebskanal für die Geschäftsfelder der Deutschen Telekom.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6440" y="1476360"/>
            <a:ext cx="8874360" cy="42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E2E8-0640-4921-8A6B-E32D96DC3E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de-DE" sz="2100" spc="-1" strike="noStrike">
                <a:solidFill>
                  <a:srgbClr val="666666"/>
                </a:solidFill>
                <a:latin typeface="Tele-Antiqua"/>
              </a:rPr>
              <a:t>Performance Tuning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Keine Lasttests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2 Mio. Aufträge als Testdaten erzeugt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Jedes Statement einzeln optimiert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Debug Information über Developer Toolbar (Laufzeiten)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Caching der Images im Application Server 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Last nicht auf dem Application Server, nur in der Datenbank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Anders als bei J2EE Applikationen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Deswegen funktionieren diese Optimierungen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D4E4-5B2A-42DF-8B94-E0192B01CDA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Eingesetzte Komponenten / Werkzeuge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59920" indent="-259920">
              <a:lnSpc>
                <a:spcPct val="6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dhtmlXTree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781920" indent="-258480">
              <a:lnSpc>
                <a:spcPct val="90000"/>
              </a:lnSpc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Tele-GroteskHal"/>
                <a:hlinkClick r:id="rId1"/>
              </a:rPr>
              <a:t>http://scbr.com/docs/products/dhtmlxTree/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59920" indent="-259920">
              <a:lnSpc>
                <a:spcPct val="6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IconExperience 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781920" indent="-258480">
              <a:lnSpc>
                <a:spcPct val="90000"/>
              </a:lnSpc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Tele-GroteskHal"/>
                <a:hlinkClick r:id="rId2"/>
              </a:rPr>
              <a:t>http://www.iconexperience.com</a:t>
            </a: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7819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7819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59920" indent="0">
              <a:lnSpc>
                <a:spcPct val="6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59920" indent="0">
              <a:lnSpc>
                <a:spcPct val="6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59920" indent="0">
              <a:lnSpc>
                <a:spcPct val="6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59920" indent="0">
              <a:lnSpc>
                <a:spcPct val="6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59920" indent="-259920">
              <a:lnSpc>
                <a:spcPct val="6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Werkzeuge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781920" indent="-258480">
              <a:lnSpc>
                <a:spcPct val="90000"/>
              </a:lnSpc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Toad (Quest Software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781920" indent="-258480">
              <a:lnSpc>
                <a:spcPct val="90000"/>
              </a:lnSpc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Aptana (</a:t>
            </a:r>
            <a:r>
              <a:rPr b="0" lang="de-DE" sz="1800" spc="-1" strike="noStrike" u="sng">
                <a:solidFill>
                  <a:srgbClr val="6699ff"/>
                </a:solidFill>
                <a:uFillTx/>
                <a:latin typeface="Tele-GroteskHal"/>
                <a:hlinkClick r:id="rId3"/>
              </a:rPr>
              <a:t>http://www.aptana.com/</a:t>
            </a: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781920" indent="-258480">
              <a:lnSpc>
                <a:spcPct val="90000"/>
              </a:lnSpc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Firefox (Developer Toolbar; MeasureIt; Aadvark; Firebug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59920" indent="0">
              <a:lnSpc>
                <a:spcPct val="6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pic>
        <p:nvPicPr>
          <p:cNvPr id="212" name="SNAG-0005" descr=""/>
          <p:cNvPicPr/>
          <p:nvPr/>
        </p:nvPicPr>
        <p:blipFill>
          <a:blip r:embed="rId4"/>
          <a:stretch/>
        </p:blipFill>
        <p:spPr>
          <a:xfrm>
            <a:off x="6151680" y="1174680"/>
            <a:ext cx="2238120" cy="2073240"/>
          </a:xfrm>
          <a:prstGeom prst="rect">
            <a:avLst/>
          </a:prstGeom>
          <a:ln w="0">
            <a:noFill/>
          </a:ln>
        </p:spPr>
      </p:pic>
      <p:pic>
        <p:nvPicPr>
          <p:cNvPr id="213" name="SNAG-0008" descr=""/>
          <p:cNvPicPr/>
          <p:nvPr/>
        </p:nvPicPr>
        <p:blipFill>
          <a:blip r:embed="rId5"/>
          <a:stretch/>
        </p:blipFill>
        <p:spPr>
          <a:xfrm>
            <a:off x="863640" y="2443320"/>
            <a:ext cx="5067360" cy="23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6928-175B-4C5E-B103-D7E3B3DB71E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e20074"/>
                </a:solidFill>
                <a:latin typeface="Tele-Antiqua"/>
              </a:rPr>
              <a:t>Lessons learned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ele-GroteskHal"/>
              </a:rPr>
              <a:t>Entwicklungs-Zyklus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Änderungen ausschließlich über Patch-Skripte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Deployment über drei Instanzen (Patch-Skripte getestet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Überall dieselbe Applikations-ID (103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DEBUG – Build Option (Default OFF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Pilotumgebung abschalten und/oder visuell kennzeichn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Lasttests durchführ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Caching der Images / Keep Alive off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RAC Konfiguration (#Sessions bei Knotenausfall hoch genug)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Public Session Protection (URL mit Session wird verteilt)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Server Dimensionierung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571B-40DD-4C95-BCFA-28347EC61B1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Die T-Punkt Vertriebsgesellschaft im Überblick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1986: Eröffnung erster T-Punkte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Mai 2004 : Ausgründung in eine eigenständige Gmb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als hundertprozentige Tochter der Deutschen Telekom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Die T-Punkt Vertriebsgesellschaft ist der einzige stationä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Vertriebskanal der Deutschen Telekom in Deutschland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Betreuung von jährlich rund 60 Millionen Privatkunden und ü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2,5 Millionen mittelständischen Geschäftskunden (T-Punkt Business)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Rund 630 Filialen und eine Verkaufsfläche von über 73 000 Quadratmeter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Mehr als 6000 Mitarbeiter, zusätzlich 1450 Auszubildende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100" name=""/>
          <p:cNvSpPr/>
          <p:nvPr/>
        </p:nvSpPr>
        <p:spPr>
          <a:xfrm>
            <a:off x="863640" y="1157400"/>
            <a:ext cx="788652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4DB4-0EAD-4FE4-9314-DCE741E7DF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Die T-Punkt Vertriebsgesellschaft im Überblick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Als Schaufenster des Konzerns direkter, persönlic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Kontakt zum Kunden (Face to Face)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Geschäftsfeldübergreifendes Portfolio an Produkt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und Dienst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Erlebnisorientierte, interaktive Präsentation für innova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und erklärungsbedürftige Produkte und Dienstleistung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der Deutschen Telekom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103" name=""/>
          <p:cNvSpPr/>
          <p:nvPr/>
        </p:nvSpPr>
        <p:spPr>
          <a:xfrm>
            <a:off x="863640" y="1157400"/>
            <a:ext cx="788652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775E-3901-47F1-80B5-7C4ADE00B7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Die Unternehmensorganisation.</a:t>
            </a:r>
            <a:br>
              <a:rPr sz="2300"/>
            </a:br>
            <a:r>
              <a:rPr b="0" lang="en-US" sz="2300" spc="-1" strike="noStrike">
                <a:solidFill>
                  <a:srgbClr val="666666"/>
                </a:solidFill>
                <a:latin typeface="Tele-Antiqua"/>
              </a:rPr>
              <a:t>Die Filialen.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290600"/>
            <a:ext cx="9001080" cy="47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B3DE-8C97-4674-96A0-616B32D1AC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e20074"/>
                </a:solidFill>
                <a:latin typeface="Tele-Antiqua"/>
              </a:rPr>
              <a:t>Die Unternehmensorganisation.</a:t>
            </a:r>
            <a:br>
              <a:rPr sz="2300"/>
            </a:br>
            <a:r>
              <a:rPr b="0" lang="de-DE" sz="2300" spc="-1" strike="noStrike">
                <a:solidFill>
                  <a:srgbClr val="666666"/>
                </a:solidFill>
                <a:latin typeface="Tele-Antiqua"/>
              </a:rPr>
              <a:t>Sechs verschiedene Outlet-Typen.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0320" y="1211400"/>
            <a:ext cx="8870760" cy="48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CA7D-3017-4DE0-9FDF-D988B177E30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Absatzerfassung im T-Punkt</a:t>
            </a:r>
            <a:br>
              <a:rPr sz="2300"/>
            </a:br>
            <a:r>
              <a:rPr b="0" lang="en-US" sz="2300" spc="-1" strike="noStrike">
                <a:solidFill>
                  <a:srgbClr val="666666"/>
                </a:solidFill>
                <a:latin typeface="Tele-Antiqua"/>
              </a:rPr>
              <a:t>Ausgangssituation und Zielsetzung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09" name=""/>
          <p:cNvSpPr/>
          <p:nvPr/>
        </p:nvSpPr>
        <p:spPr>
          <a:xfrm>
            <a:off x="863640" y="1157400"/>
            <a:ext cx="788652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22920" y="1449360"/>
            <a:ext cx="3852720" cy="471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Die TPG benötigt ein eigenes System für die Absatzerfassung zur variablen Vergü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Dabei soll der Mitarbeiter nach dem Brutto-Absatz-Prinzip vergütet werd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8200" y="1487520"/>
            <a:ext cx="4068720" cy="4716360"/>
          </a:xfrm>
          <a:prstGeom prst="rightArrow">
            <a:avLst>
              <a:gd name="adj1" fmla="val 100000"/>
              <a:gd name="adj2" fmla="val 1369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Das Jahreszielgehalt der Mitarbeiter in den T-Punkten besteht aus einem fixen Anteil und einem variablen Anteil, der unter anderem abhängig von der Verkaufsleis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Die T-Punkt Vertriebsgesellschaft verfügt über kein eigenes Order Management System, sondern benutzt stattdessen die Systeme der jeweiligen Divisionen (T-Com, T-Online, T-Mob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Die TPG hat keinen direkten Zugriff auf die von ihren Mitarbeitern erfasste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Unterschiedliche Betrachtungsweisen eines Vertriebserfolgs (Brutto- / Nettosich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8200" y="1090440"/>
            <a:ext cx="352908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le-GroteskHal"/>
              </a:rPr>
              <a:t>Ausgangs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22920" y="1090440"/>
            <a:ext cx="385272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le-GroteskHal"/>
              </a:rPr>
              <a:t>Zielset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72F5-D0E4-4180-89BC-B4860A81103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Historische Ansätze und Probleme 1 / 3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15" name=""/>
          <p:cNvSpPr/>
          <p:nvPr/>
        </p:nvSpPr>
        <p:spPr>
          <a:xfrm>
            <a:off x="863640" y="1157400"/>
            <a:ext cx="788652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22920" y="1449360"/>
            <a:ext cx="3852720" cy="471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Neue Anforderung: Die erfassten Brutto-Absätze sollen auch als Basis für ein Vertriebsmonitoring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Die 14 Scan Codes reichen zwar aus für die variable Vergütung, aber die erfassten Cluster sind viel zu grob für eine Vertriebssteu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Entstehung von parallelen Erfassungssystematiken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8200" y="1487520"/>
            <a:ext cx="4068720" cy="4716360"/>
          </a:xfrm>
          <a:prstGeom prst="rightArrow">
            <a:avLst>
              <a:gd name="adj1" fmla="val 100000"/>
              <a:gd name="adj2" fmla="val 1369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Mitarbeiter führen Strichlisten über Ihre Verkaufserfol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Die Erfassung erfolgt in 14 Gruppen analog zu den unterschiedlichen Bewertungsclustern in der variablen Vergü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Abends erfassen sie über 14 Scan Codes an der Kasse ihre gestrichelten Absätz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8200" y="1090440"/>
            <a:ext cx="352908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ele-GroteskHal"/>
              </a:rPr>
              <a:t>Quartal 1 2006: 14 Scan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22920" y="1090440"/>
            <a:ext cx="385272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le-GroteskHal"/>
              </a:rPr>
              <a:t>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8A35-7F10-4520-93A2-87C1F46AFC6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9:32:39Z</dcterms:created>
  <dc:creator>M. Flugel</dc:creator>
  <dc:description/>
  <dc:language>en-US</dc:language>
  <cp:lastModifiedBy>Dietmar Aust</cp:lastModifiedBy>
  <cp:lastPrinted>2004-07-26T11:50:29Z</cp:lastPrinted>
  <dcterms:modified xsi:type="dcterms:W3CDTF">2007-05-31T07:04:46Z</dcterms:modified>
  <cp:revision>128</cp:revision>
  <dc:subject/>
  <dc:title>Anforderungs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Name">
    <vt:lpwstr>&lt;&lt;filename&gt;&gt;</vt:lpwstr>
  </property>
  <property fmtid="{D5CDD505-2E9C-101B-9397-08002B2CF9AE}" pid="3" name="FilenameSize">
    <vt:r8>7</vt:r8>
  </property>
  <property fmtid="{D5CDD505-2E9C-101B-9397-08002B2CF9AE}" pid="4" name="_AdHocReviewCycleID">
    <vt:r8>1879052374</vt:r8>
  </property>
  <property fmtid="{D5CDD505-2E9C-101B-9397-08002B2CF9AE}" pid="5" name="_AuthorEmail">
    <vt:lpwstr>Michael.Flugel@t-systems.com</vt:lpwstr>
  </property>
  <property fmtid="{D5CDD505-2E9C-101B-9397-08002B2CF9AE}" pid="6" name="_AuthorEmailDisplayName">
    <vt:lpwstr>Flugel, Michael</vt:lpwstr>
  </property>
  <property fmtid="{D5CDD505-2E9C-101B-9397-08002B2CF9AE}" pid="7" name="_EmailSubject">
    <vt:lpwstr>Shop_DB_Status_20070404 V01.ppt</vt:lpwstr>
  </property>
</Properties>
</file>